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C36-4C67-4607-B971-B9CD7357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B89-365B-4290-A928-569619F4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E5C-E1EC-47CB-B4B4-114EFD54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477-AC0F-4DB1-901C-654B7C08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71D-D212-4354-AAEA-8D8199A0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5552-260D-455E-9FE1-A7A01DB9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613B-1996-41EA-925A-7B202CC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AE1F-31B7-4487-A65F-7F4D089C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2EE7-F73D-4D73-91FD-3FD4802F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304-0B82-41EA-BC85-36AD934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5B7-6751-479B-A959-708242E4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B23-9419-4CFC-9CB9-D1A844FF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A2DA-34C5-42BA-98D2-CB1D4A82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3C95-739C-4311-A5DD-C13AD3C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EF7-54EB-473A-B7C5-E3DECA0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C2B8-0E10-456B-AC96-9021907A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2E14-6115-4996-968D-B7365446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5BD-7F2B-4E71-AABF-D1AB29D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20E-0D26-4688-9689-72239779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AA3-8B6C-417D-B397-D84DE53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581-C434-4E18-A1AB-CA081AB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576-3690-45DA-86D2-2A1D141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AB8-4690-4570-AE09-2FD0E6A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6E8-6370-44BB-AA6B-591142B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968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92000" y="6332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324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420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3488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CF69-AEB8-4DF4-9FFF-E42A7797F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176F-9530-4620-A7ED-080E7B3212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Allegro BT"/>
              </a:rPr>
              <a:t>Automazione (Laboratorio)</a:t>
            </a:r>
            <a:br>
              <a:rPr sz="3600"/>
            </a:br>
            <a:r>
              <a:rPr b="0" lang="sv-SE" sz="3200" spc="-1" strike="noStrike">
                <a:solidFill>
                  <a:srgbClr val="3333ff"/>
                </a:solidFill>
                <a:latin typeface="Tahoma"/>
              </a:rPr>
              <a:t> </a:t>
            </a:r>
            <a:br>
              <a:rPr sz="3200"/>
            </a:br>
            <a:r>
              <a:rPr b="1" lang="sv-SE" sz="3200" spc="-1" strike="noStrike">
                <a:solidFill>
                  <a:srgbClr val="3333ff"/>
                </a:solidFill>
                <a:latin typeface="Impact"/>
              </a:rPr>
              <a:t>Reti Neurali per l’Identificazione ed il Controllo</a:t>
            </a:r>
            <a:r>
              <a:rPr b="0" lang="sv-SE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urlz MT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urlz MT"/>
              </a:rPr>
              <a:t>Introduction to Neural Networks</a:t>
            </a:r>
            <a:r>
              <a:rPr b="0" lang="sv-SE" sz="44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urlz MT"/>
              </a:rPr>
              <a:t>(Machine Learning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6840" y="571500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33cc33"/>
                </a:solidFill>
                <a:latin typeface="Westminster"/>
              </a:rPr>
              <a:t>Silvio Sima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sv-SE" sz="4000" spc="-1" strike="noStrike">
                <a:solidFill>
                  <a:srgbClr val="3333ff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chine Lear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useful for data mining, poorly understood domain (face recognition) and programs that must dynamically ada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ws from many diverse discip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problem needs well-specified task, performance metric and train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 searching space of possible hypotheses. Different learning methods search different hypothesis space, such as numerical functions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eural networ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decision trees, symbolic r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447920"/>
            <a:ext cx="8534160" cy="57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Textbook 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suggested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Neural Networks for Identification, Prediction, and Control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, by Duc Truong Pham and Xing Liu. Springer Verlag; (December 1995). ISBN: 35401995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Nonlinear Identification and Control: A Neural Network Approach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, by G. P. Liu. Springer Verlag; (October 2001). ISBN: 18523334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Course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 int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neural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s in Neural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ura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layer Percept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al Basi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Improve  automatically with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Imitating human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Human lear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Fast recognition and classification of complex classes of objects and concepts and fast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Example: neura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ome techniques assume statistica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elect a statistical model to model th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Other techniques are based on reasoning or inductive inference (e.g. Decision tre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Disciplines relevant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Bayesian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Control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Informa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Computational complexity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Psychology and neurob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Machine Learning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A computer program is said to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learn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experience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with respect to some class of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 tasks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performance measure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, if its performance at tasks in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, as measured by </a:t>
            </a:r>
            <a:r>
              <a:rPr b="1" lang="sv-SE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, improves with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Tahoma"/>
              </a:rPr>
              <a:t>Examples of Learning Probl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650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ample 1: Handwriting Recog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: Recognizing and classifying handwritten words within im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percentage of words correctly class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: a database of handwritten words with given class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xample 2: Learn to play check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: play che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percentage of games won in a tourna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: opportunity to play against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Type of Training Exper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Direct or indirec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Direct: board state -&gt; correct 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Indirect: Credit assignment problem (degree of credit or blame for each move to the final outcome of win or lo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Teacher or no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Teacher selects board states and provide correct moves </a:t>
            </a: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Learner can select board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Is training experience representative of performance go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Training playing against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Performance evaluated playing against world champ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ff"/>
                </a:solidFill>
                <a:latin typeface="Tahoma"/>
              </a:rPr>
              <a:t>Issues in </a:t>
            </a:r>
            <a:r>
              <a:rPr b="0" i="1" lang="sv-SE" sz="4400" spc="-1" strike="noStrike">
                <a:solidFill>
                  <a:srgbClr val="3333ff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What algorithms can approximate functions well and 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How does the number of training examples influence accura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How does the complexity of hypothesis representation impact i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How does noisy data influence accura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 do you reduce a learning problem to a set of function approxi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o Simani</cp:lastModifiedBy>
  <dcterms:modified xsi:type="dcterms:W3CDTF">2004-03-23T16:20:03Z</dcterms:modified>
  <cp:revision>156</cp:revision>
  <dc:subject/>
  <dc:title>PowerPoint Presentation</dc:title>
</cp:coreProperties>
</file>