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CA2-C0FF-44FE-8C7F-C1A862C9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798-97F6-45E7-AB89-B4CCD59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98B-60DA-40CC-8035-E0C214C4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E91-AFA1-4B32-9932-795D83FB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4224-AF53-4382-92A4-0F548A5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06F-020B-4AE8-8758-BED287C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9F5-A9D5-48A9-84AC-11F8705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896-F9AD-4741-ACAB-B2EEDA6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DD0-6533-40BB-A790-B91161EB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4F2-7B0F-496C-8198-92E49E7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6A2-BAFE-4ED8-9AEF-F7AF8D7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3E9-B7C0-4C54-B418-3220FED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D49C-5BFB-4690-B14B-B2D2FAD8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Matisse ITC"/>
              </a:rPr>
              <a:t>Topics in Neur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Matisse ITC"/>
              </a:rPr>
              <a:t>Lecture 2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Matisse ITC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istorical Development of AN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iam James (1890) : Describes in words and figures simple distributed networks and Hebbian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Culloch &amp; Pitts (1943) : Binary threshold units that perform logical operations (they proof universal comput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bb (1949) : formulation of a physiological (local) learn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seblatt (1958) : The perceptron– a first real learning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row &amp; Hoff (1960) : ADALINE and the Widrow-Hoff supervised learn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Historical Development of 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ohonen(1982) : Self-organiz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pfield(1982) :Hopfiel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umelhart, Hinton &amp; Williams (1986) : Back-propagation &amp; Multilayer Percep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roomhead &amp; Lowe  (1988) : Radial basis functions (RB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apnik (1990) ---support vector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hen should ANN Solution be Consider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85345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to the problem cannot be explicitly described by an algorithm, a set of equations, or a set of r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some evidence that an input-output mapping exists between a set of input and output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should be a large amount of data available to train the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roblems which can lead to poor performance 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has to distinguish between very similar cases with a very high degree of accura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in data does not represent the ranges of cases that the network will encounter in pract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has a several hundred inp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in discriminating factors are not present in the available data. E.g. trying to assess the loan application without having knowledge of the applicant's sala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is required to implement a very complex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Applications of Artificial Neural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: fault diagnosis, frau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ailing : fraud detection, forecasting, data 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e : fraud detection, forecasting, data 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ineering : fault diagnosis, signal/imag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ion : fault diagnosis, fore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es &amp;Marketing : forecasting, data m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PRE-PRO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ural networks very rarely operate on the raw data. An initial pre-processing stage is essential. Some examples are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extraction of images: For example, the analysis of X-rays requires pre-processing to extract features which may be of interest within a specified reg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ing input variables with numbers. For example "+1" is the person is married, "0" if divorced, and "-1" if single. Another example is representing the pixels of an image: 255 = bright white, 0 = black. To ensure the generalization capability of a neural network, the data should be encoded in form which allows for interpo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PRE-PRO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egorical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tegorical variable is a variable that can belong to one of a number of discrete categories. For example, red, green bl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egorical variables are usually encoded using 1 out-of n coding. e.g. for three colours,  red = (1 0 0), green =(0 1 0) Blue =(0 0 1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used red = 1, green = 2, blue = 3, then this type of encoding imposes an ordering on the values of the variables which does not exi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PRE-PRO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tinuous variable can be directly applied to a neural network. However, if the dynamic range of input variables are not approximately the same, it is better to normalize all input variables of the neural net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ample of Normalized Input Vec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6096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vector :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2 4 5 6 10 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of vecto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devia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ized vecto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 of normalized vector is z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deviation of normalized vector is unity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09880" y="1676520"/>
                <a:ext cx="2743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91120" y="2362320"/>
                <a:ext cx="29718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038480" y="3200400"/>
                <a:ext cx="4780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6</m:t>
                                  </m:r>
                                </m:e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1</m:t>
                                        </m:r>
                                      </m:e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78</m:t>
                                        </m:r>
                                      </m:e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3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Course Outlin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s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neur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 Neur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ural Network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layer Perceptron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al Basis Network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Matisse ITC"/>
              </a:rPr>
              <a:t>Introduction to Neural Networ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00200" y="3002040"/>
          <a:ext cx="5638680" cy="26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02040"/>
                    <a:ext cx="563868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21932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urons (process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 1000-10000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3712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762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943600" y="10666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8862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657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143000"/>
            <a:ext cx="4648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/Output Signal may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 {0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{-1, +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-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ngth of conn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s to the weight from un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un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not the other way roun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i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nstant that can be written 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0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1 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unit’s activation function. In the simplest case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identity function, and the unit’s output is just its net input. This is called a linear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activation functions are : step function, sigmoid function and Gaussia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95480" y="1981080"/>
                <a:ext cx="3124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ctivation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Gaussian"/>
          <p:cNvPicPr/>
          <p:nvPr/>
        </p:nvPicPr>
        <p:blipFill>
          <a:blip r:embed="rId1"/>
          <a:stretch/>
        </p:blipFill>
        <p:spPr>
          <a:xfrm>
            <a:off x="2352600" y="3800520"/>
            <a:ext cx="476280" cy="4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553080" y="3657600"/>
                <a:ext cx="1600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838080" y="5791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moi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id4.gif (1597 bytes)"/>
          <p:cNvPicPr/>
          <p:nvPr/>
        </p:nvPicPr>
        <p:blipFill>
          <a:blip r:embed="rId2"/>
          <a:stretch/>
        </p:blipFill>
        <p:spPr>
          <a:xfrm>
            <a:off x="380880" y="3352680"/>
            <a:ext cx="2533680" cy="22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id1.gif (1121 bytes)"/>
          <p:cNvPicPr/>
          <p:nvPr/>
        </p:nvPicPr>
        <p:blipFill>
          <a:blip r:embed="rId3"/>
          <a:stretch/>
        </p:blipFill>
        <p:spPr>
          <a:xfrm>
            <a:off x="457200" y="1143000"/>
            <a:ext cx="2343240" cy="191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d3.gif (1430 bytes)"/>
          <p:cNvPicPr/>
          <p:nvPr/>
        </p:nvPicPr>
        <p:blipFill>
          <a:blip r:embed="rId4"/>
          <a:stretch/>
        </p:blipFill>
        <p:spPr>
          <a:xfrm>
            <a:off x="5867280" y="91440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52680" y="5867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polar Sigmoi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276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polar Step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124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Step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124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id2.gif (1428 bytes)"/>
          <p:cNvPicPr/>
          <p:nvPr/>
        </p:nvPicPr>
        <p:blipFill>
          <a:blip r:embed="rId5"/>
          <a:stretch/>
        </p:blipFill>
        <p:spPr>
          <a:xfrm>
            <a:off x="2971800" y="838080"/>
            <a:ext cx="2419200" cy="2190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400800" y="5867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343400"/>
            <a:ext cx="1752480" cy="1219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4343400"/>
            <a:ext cx="1752480" cy="1231920"/>
          </a:xfrm>
          <a:custGeom>
            <a:avLst/>
            <a:gdLst/>
            <a:ahLst/>
            <a:rect l="l" t="t" r="r" b="b"/>
            <a:pathLst>
              <a:path w="1104" h="776">
                <a:moveTo>
                  <a:pt x="0" y="776"/>
                </a:moveTo>
                <a:cubicBezTo>
                  <a:pt x="124" y="768"/>
                  <a:pt x="248" y="760"/>
                  <a:pt x="336" y="632"/>
                </a:cubicBezTo>
                <a:cubicBezTo>
                  <a:pt x="424" y="504"/>
                  <a:pt x="472" y="16"/>
                  <a:pt x="528" y="8"/>
                </a:cubicBezTo>
                <a:cubicBezTo>
                  <a:pt x="584" y="0"/>
                  <a:pt x="576" y="456"/>
                  <a:pt x="672" y="584"/>
                </a:cubicBezTo>
                <a:cubicBezTo>
                  <a:pt x="768" y="712"/>
                  <a:pt x="936" y="744"/>
                  <a:pt x="1104" y="776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356000"/>
            <a:ext cx="1752480" cy="1219320"/>
          </a:xfrm>
          <a:custGeom>
            <a:avLst/>
            <a:gdLst/>
            <a:ahLst/>
            <a:rect l="l" t="t" r="r" b="b"/>
            <a:pathLst>
              <a:path w="1104" h="768">
                <a:moveTo>
                  <a:pt x="0" y="768"/>
                </a:moveTo>
                <a:cubicBezTo>
                  <a:pt x="100" y="688"/>
                  <a:pt x="200" y="608"/>
                  <a:pt x="288" y="480"/>
                </a:cubicBezTo>
                <a:cubicBezTo>
                  <a:pt x="376" y="352"/>
                  <a:pt x="456" y="0"/>
                  <a:pt x="528" y="0"/>
                </a:cubicBezTo>
                <a:cubicBezTo>
                  <a:pt x="600" y="0"/>
                  <a:pt x="624" y="352"/>
                  <a:pt x="720" y="480"/>
                </a:cubicBezTo>
                <a:cubicBezTo>
                  <a:pt x="816" y="608"/>
                  <a:pt x="1040" y="720"/>
                  <a:pt x="1104" y="76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d5.gif (1608 bytes)"/>
          <p:cNvPicPr/>
          <p:nvPr/>
        </p:nvPicPr>
        <p:blipFill>
          <a:blip r:embed="rId6"/>
          <a:stretch/>
        </p:blipFill>
        <p:spPr>
          <a:xfrm>
            <a:off x="3124080" y="3657600"/>
            <a:ext cx="2297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Artificial Neural Networks (AN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2004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7524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5812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648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4572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31240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0574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0574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057400"/>
            <a:ext cx="129528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742840" y="21337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66520" y="2133720"/>
            <a:ext cx="12956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666520" y="2133720"/>
            <a:ext cx="129564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743200" y="29718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66688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666880" y="342900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743200" y="304812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666880" y="38862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880" y="48006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2096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3429000"/>
            <a:ext cx="1447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647960" y="3733920"/>
            <a:ext cx="1523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2040" y="213372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343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71440" y="2514600"/>
            <a:ext cx="66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(vec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o Simani</cp:lastModifiedBy>
  <dcterms:modified xsi:type="dcterms:W3CDTF">2004-03-23T16:34:36Z</dcterms:modified>
  <cp:revision>66</cp:revision>
  <dc:subject/>
  <dc:title>PowerPoint Presentation</dc:title>
</cp:coreProperties>
</file>