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342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04920" y="12952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Matisse ITC"/>
              </a:rPr>
              <a:t>Simple Neural Net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447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atisse ITC"/>
              </a:rPr>
              <a:t>Lecture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atisse ITC"/>
              </a:rPr>
              <a:t>ADALIN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809040" cy="3352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V="1">
            <a:off x="5486400" y="4572000"/>
            <a:ext cx="1066680" cy="8380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49680" y="373392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4800600"/>
            <a:ext cx="7650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4876920"/>
            <a:ext cx="119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(t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7280" y="179280"/>
            <a:ext cx="8172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radient descent algorithm, we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(t+1) = w(t) – F’(w(t))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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fore the ball goes downhill  since – F’(w(t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downhill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6680" y="523800"/>
            <a:ext cx="89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ually the ball will stop at a local minima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radient is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693432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4876920" y="5257440"/>
            <a:ext cx="914400" cy="17316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88760" y="356724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419720" y="4800600"/>
            <a:ext cx="1290240" cy="623520"/>
            <a:chOff x="4419720" y="4800600"/>
            <a:chExt cx="1290240" cy="623520"/>
          </a:xfrm>
        </p:grpSpPr>
        <p:sp>
          <p:nvSpPr>
            <p:cNvPr id="81" name=""/>
            <p:cNvSpPr/>
            <p:nvPr/>
          </p:nvSpPr>
          <p:spPr>
            <a:xfrm>
              <a:off x="4419720" y="4800600"/>
              <a:ext cx="779040" cy="62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6760" y="4962600"/>
              <a:ext cx="121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(t+k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83808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dient method could be thought of  as a ball rolling down  from a hill: the ball will roll down and finally stop at the vall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362320"/>
            <a:ext cx="883908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us, the weights are adjust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+1) = w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 +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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[d(i) -  f(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·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i)) ]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f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is corresponds to gradient descent on the quadratic error surfac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hen f’ =1, we have the perceptron learning rule (we have in general f’&gt;0 in neural networks). The ball moves in the right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15238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2600" y="1219320"/>
            <a:ext cx="85564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equential mod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(on-line, stochastic, or per-pattern)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Weights updated after each pattern is presented  (Perceptron is in this clas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atch mod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(off-line or per-epoch) : 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Weights updated after all patterns are pres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28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4ffb"/>
                </a:solidFill>
                <a:latin typeface="Tahoma"/>
              </a:rPr>
              <a:t>Two types of network train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114ffb"/>
                </a:solidFill>
                <a:latin typeface="Tahoma"/>
              </a:rPr>
              <a:t>Comparison Perceptron and Gradient Descent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Perceptron learning rule guaranteed to succeed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Training examples are linearly se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Sufficiently small learning rate </a:t>
            </a:r>
            <a:r>
              <a:rPr b="0" lang="sv-SE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Linear unit training rule uses gradient descent  guaranteed to converge to hypothesis with minimum squared error given sufficiently small learning rate </a:t>
            </a:r>
            <a:r>
              <a:rPr b="0" lang="sv-SE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Even when training data contains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Even when training data not separable by Hyper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issance of Percept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2286000" cy="1068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cept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5486400"/>
            <a:ext cx="2971800" cy="155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Vector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1447920"/>
            <a:ext cx="2286000" cy="165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Layer Percept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514600" y="2057400"/>
            <a:ext cx="35053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4114800"/>
            <a:ext cx="312408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4419720"/>
            <a:ext cx="4114800" cy="5814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heory, 90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514600"/>
            <a:ext cx="4191120" cy="106884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-Propagation, 80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228600"/>
            <a:ext cx="69343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114ffb"/>
                </a:solidFill>
                <a:latin typeface="Tahoma"/>
              </a:rPr>
              <a:t>Summary of Previous  L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ae00"/>
                </a:solidFill>
                <a:uFillTx/>
                <a:latin typeface="Tahoma"/>
              </a:rPr>
              <a:t>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t+1)=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t)+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t) [ d(t) - sign (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t) .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]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ae00"/>
                </a:solidFill>
                <a:uFillTx/>
                <a:latin typeface="Tahoma"/>
              </a:rPr>
              <a:t>Adalin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(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Gradient descent 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t+1)=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t)+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t) [ d(t) - f(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t) .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]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609480"/>
            <a:ext cx="784836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4000" spc="-1" strike="noStrike">
                <a:solidFill>
                  <a:srgbClr val="114ffb"/>
                </a:solidFill>
                <a:latin typeface="Tahoma"/>
              </a:rPr>
              <a:t>Multi-Layer Perceptron (ML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114ffb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ahoma"/>
              </a:rPr>
              <a:t>Idea</a:t>
            </a:r>
            <a:r>
              <a:rPr b="1" lang="it-IT" sz="3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Credit assignment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 of assigning ‘credit’ or ‘blame’ to individual elements involving in forming overall response of a learning system (hidden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neural networks, problem relates to dividing which weights should be altered, by how much and in which dire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-1080" y="304920"/>
            <a:ext cx="8877960" cy="6169680"/>
            <a:chOff x="-1080" y="304920"/>
            <a:chExt cx="8877960" cy="6169680"/>
          </a:xfrm>
        </p:grpSpPr>
        <p:sp>
          <p:nvSpPr>
            <p:cNvPr id="101" name=""/>
            <p:cNvSpPr/>
            <p:nvPr/>
          </p:nvSpPr>
          <p:spPr>
            <a:xfrm>
              <a:off x="1544760" y="934920"/>
              <a:ext cx="291960" cy="292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44760" y="1620720"/>
              <a:ext cx="291960" cy="292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4760" y="5126040"/>
              <a:ext cx="291960" cy="291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66880" y="3443400"/>
              <a:ext cx="0" cy="129528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8360" y="329076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6840" y="510552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4560" y="91440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4560" y="1523880"/>
              <a:ext cx="42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3120" y="1446120"/>
              <a:ext cx="506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5760" y="531720"/>
              <a:ext cx="50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7160" y="4494240"/>
              <a:ext cx="50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1080" y="2971800"/>
              <a:ext cx="826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48000" y="3124080"/>
              <a:ext cx="102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6520" y="5560920"/>
              <a:ext cx="90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44760" y="2382840"/>
              <a:ext cx="291960" cy="291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934920"/>
              <a:ext cx="291960" cy="2923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6360" y="2382840"/>
              <a:ext cx="291960" cy="2919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16360" y="1620720"/>
              <a:ext cx="291960" cy="2923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92320" y="5126040"/>
              <a:ext cx="292320" cy="2919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7960" y="934920"/>
              <a:ext cx="291960" cy="2923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87960" y="1620720"/>
              <a:ext cx="291960" cy="2923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87960" y="2382840"/>
              <a:ext cx="291960" cy="2919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63920" y="5049720"/>
              <a:ext cx="292320" cy="2923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49920" y="4135320"/>
              <a:ext cx="292320" cy="292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9920" y="3144960"/>
              <a:ext cx="292320" cy="291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73960" y="2154240"/>
              <a:ext cx="291960" cy="291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72400" y="23004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48360" y="428148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3200" y="1004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843200" y="1004400"/>
              <a:ext cx="10666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843200" y="1081080"/>
              <a:ext cx="99036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843200" y="1004760"/>
              <a:ext cx="1066680" cy="426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43200" y="1004760"/>
              <a:ext cx="106668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6880" y="17668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843200" y="1766520"/>
              <a:ext cx="106668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843200" y="1766520"/>
              <a:ext cx="1066680" cy="35053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43200" y="1004760"/>
              <a:ext cx="1066680" cy="152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43200" y="1766880"/>
              <a:ext cx="106668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43200" y="2529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843200" y="2529000"/>
              <a:ext cx="1066680" cy="27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43200" y="1004760"/>
              <a:ext cx="1143000" cy="4267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43200" y="1843200"/>
              <a:ext cx="114300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6880" y="2529000"/>
              <a:ext cx="121932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43200" y="52722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8480" y="3443400"/>
              <a:ext cx="0" cy="129528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14800" y="1004760"/>
              <a:ext cx="1066680" cy="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214800" y="1004400"/>
              <a:ext cx="1066680" cy="7621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214800" y="1081080"/>
              <a:ext cx="990360" cy="144792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214800" y="1004760"/>
              <a:ext cx="1066680" cy="426744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14800" y="1004760"/>
              <a:ext cx="1066680" cy="762120"/>
            </a:xfrm>
            <a:prstGeom prst="line">
              <a:avLst/>
            </a:prstGeom>
            <a:ln w="12600">
              <a:solidFill>
                <a:srgbClr val="00ae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38480" y="1766880"/>
              <a:ext cx="1066680" cy="0"/>
            </a:xfrm>
            <a:prstGeom prst="line">
              <a:avLst/>
            </a:prstGeom>
            <a:ln w="12600">
              <a:solidFill>
                <a:srgbClr val="00ae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214800" y="1766520"/>
              <a:ext cx="1066680" cy="762120"/>
            </a:xfrm>
            <a:prstGeom prst="line">
              <a:avLst/>
            </a:prstGeom>
            <a:ln w="12600">
              <a:solidFill>
                <a:srgbClr val="00ae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214800" y="1766520"/>
              <a:ext cx="1066680" cy="3505320"/>
            </a:xfrm>
            <a:prstGeom prst="line">
              <a:avLst/>
            </a:prstGeom>
            <a:ln w="12600">
              <a:solidFill>
                <a:srgbClr val="00ae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14800" y="1004760"/>
              <a:ext cx="1066680" cy="152424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14800" y="1766880"/>
              <a:ext cx="1066680" cy="76212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14800" y="2529000"/>
              <a:ext cx="1066680" cy="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214800" y="2529000"/>
              <a:ext cx="1066680" cy="2743200"/>
            </a:xfrm>
            <a:prstGeom prst="line">
              <a:avLst/>
            </a:prstGeom>
            <a:ln w="255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14800" y="1004760"/>
              <a:ext cx="1143000" cy="4267440"/>
            </a:xfrm>
            <a:prstGeom prst="line">
              <a:avLst/>
            </a:prstGeom>
            <a:ln w="12600">
              <a:solidFill>
                <a:srgbClr val="00ae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14800" y="1843200"/>
              <a:ext cx="1143000" cy="335268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38480" y="2529000"/>
              <a:ext cx="1219320" cy="2743200"/>
            </a:xfrm>
            <a:prstGeom prst="line">
              <a:avLst/>
            </a:prstGeom>
            <a:ln w="1260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14800" y="5272200"/>
              <a:ext cx="1143000" cy="0"/>
            </a:xfrm>
            <a:prstGeom prst="line">
              <a:avLst/>
            </a:prstGeom>
            <a:ln w="12600">
              <a:solidFill>
                <a:srgbClr val="00ae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86400" y="1004760"/>
              <a:ext cx="19810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6400" y="1766880"/>
              <a:ext cx="19810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86400" y="1004760"/>
              <a:ext cx="2057400" cy="22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586400" y="2300040"/>
              <a:ext cx="19810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738680" y="2223720"/>
              <a:ext cx="175248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86400" y="1766880"/>
              <a:ext cx="205740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86400" y="2529000"/>
              <a:ext cx="20574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738680" y="3290760"/>
              <a:ext cx="190512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6400" y="1004760"/>
              <a:ext cx="2057400" cy="32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86400" y="1766880"/>
              <a:ext cx="205740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6400" y="2529000"/>
              <a:ext cx="205740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8680" y="4281480"/>
              <a:ext cx="18288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33760" y="3367080"/>
              <a:ext cx="0" cy="129528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82640" y="304920"/>
              <a:ext cx="51634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it-IT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Four-layer network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0520" y="6019920"/>
              <a:ext cx="1859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idden lay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219320"/>
            <a:ext cx="8839080" cy="27432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0" y="396720"/>
            <a:ext cx="923976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114ffb"/>
                </a:solidFill>
                <a:latin typeface="Tahoma"/>
              </a:rPr>
              <a:t>Properties of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nections within a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irect connections between input and output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y connected between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more than 2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output units need not equal number of inpu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hidden units per layer can be more or less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or outpu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38080" y="4038480"/>
            <a:ext cx="6081480" cy="2590560"/>
            <a:chOff x="838080" y="4038480"/>
            <a:chExt cx="6081480" cy="2590560"/>
          </a:xfrm>
        </p:grpSpPr>
        <p:sp>
          <p:nvSpPr>
            <p:cNvPr id="180" name=""/>
            <p:cNvSpPr/>
            <p:nvPr/>
          </p:nvSpPr>
          <p:spPr>
            <a:xfrm>
              <a:off x="5768640" y="5151960"/>
              <a:ext cx="1030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68240" y="6395400"/>
              <a:ext cx="9032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8080" y="4038480"/>
              <a:ext cx="291960" cy="138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8080" y="4779000"/>
              <a:ext cx="291960" cy="1364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4389120"/>
              <a:ext cx="291960" cy="1389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4040" y="6178680"/>
              <a:ext cx="292320" cy="138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09680" y="4389120"/>
              <a:ext cx="291960" cy="1389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60200" y="5313960"/>
              <a:ext cx="0" cy="66312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36520" y="4068720"/>
              <a:ext cx="1066680" cy="389520"/>
            </a:xfrm>
            <a:prstGeom prst="line">
              <a:avLst/>
            </a:prstGeom>
            <a:ln w="12600">
              <a:solidFill>
                <a:srgbClr val="00ae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0200" y="4458240"/>
              <a:ext cx="1066680" cy="0"/>
            </a:xfrm>
            <a:prstGeom prst="line">
              <a:avLst/>
            </a:prstGeom>
            <a:ln w="12600">
              <a:solidFill>
                <a:srgbClr val="00ae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136520" y="4457880"/>
              <a:ext cx="1066680" cy="389880"/>
            </a:xfrm>
            <a:prstGeom prst="line">
              <a:avLst/>
            </a:prstGeom>
            <a:ln w="12600">
              <a:solidFill>
                <a:srgbClr val="00ae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136520" y="4457880"/>
              <a:ext cx="1066680" cy="1789560"/>
            </a:xfrm>
            <a:prstGeom prst="line">
              <a:avLst/>
            </a:prstGeom>
            <a:ln w="12600">
              <a:solidFill>
                <a:srgbClr val="00ae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2958840" y="5041440"/>
                  <a:ext cx="396072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" name=""/>
          <p:cNvSpPr/>
          <p:nvPr/>
        </p:nvSpPr>
        <p:spPr>
          <a:xfrm>
            <a:off x="3618720" y="4100400"/>
            <a:ext cx="373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ach unit is a 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114ffb"/>
                </a:solidFill>
                <a:latin typeface="Tahoma"/>
              </a:rPr>
              <a:t>Out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ent descending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s of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0880" y="2438280"/>
            <a:ext cx="6105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gradient descent method              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114800" y="4343400"/>
            <a:ext cx="3571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ultilayer network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0080" y="32767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808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0" spc="-1" strike="noStrike">
                <a:solidFill>
                  <a:srgbClr val="114ffb"/>
                </a:solidFill>
                <a:latin typeface="Arial"/>
              </a:rPr>
              <a:t>BP (Back Propagation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1447920"/>
            <a:ext cx="5335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114ffb"/>
                </a:solidFill>
                <a:latin typeface="Tahoma"/>
              </a:rPr>
              <a:t>Unhappy over Perceptron Trai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erceptron gives the right answer, no learning takes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below the threshold is interpreted as ‘no’, even it is just below the thresh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ight be better to train the neuron based on how far below the threshold it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0"/>
            <a:ext cx="762120" cy="8380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0"/>
            <a:ext cx="180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143000"/>
            <a:ext cx="793908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ALINE is an acronym for ADAptive LINear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or ADAptive LInear NEuron) developed by Bernard   Widrow and Marcian Hoff (196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are several variations of Adaline. One has threshold same as perceptron and another just a bare linear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Adaline learning rule is also known as the least-mean-squares (LMS) rule, the delta rule, or the Widrow-Hoff ru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 is a training rule that minimizes the output error using (approximate) gradient descent meth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4ffb"/>
                </a:solidFill>
                <a:latin typeface="Tahoma"/>
              </a:rPr>
              <a:t>ADA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6858000" cy="4724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04920"/>
            <a:ext cx="8458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place the step function in the perceptron with a continuous (differentiable)  function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e.g the simplest is  linear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 or without the threshold, the Adaline is trained based on the output of the function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ather than the final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6400" y="685800"/>
            <a:ext cx="9060480" cy="60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fter each training patter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i)  is presented, the correction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pply to  the weights is proportional to the erro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E (i,t)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[ d(i) – f(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t)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·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i)) ] 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ahoma"/>
              </a:rPr>
              <a:t>2        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i=1,...,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N.B. If  f is a linear function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t) ·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i)) =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t) ·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mming together, our purpose is to find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hich minimiz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E (t) =  </a:t>
            </a: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∑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E(i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685800"/>
            <a:ext cx="8610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066680"/>
            <a:ext cx="723888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find  g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t+1) =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t)+g( E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t))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tha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utomatically tends to the global minima of E(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t+1) =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t)- E’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t))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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(see figure belo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560" y="92160"/>
            <a:ext cx="7844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Swiss911 XCm BT"/>
              </a:rPr>
              <a:t>General Approach  </a:t>
            </a:r>
            <a:r>
              <a:rPr b="0" lang="en-US" sz="3200" spc="-1" strike="noStrike">
                <a:solidFill>
                  <a:srgbClr val="618ffd"/>
                </a:solidFill>
                <a:latin typeface="Times New Roman"/>
              </a:rPr>
              <a:t>gradient descen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360" y="533520"/>
            <a:ext cx="8681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ient direction is the direction of up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in the Figure, at position 0.4,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dient is uphill   ( F is E, consider one dim case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0720" y="2209680"/>
            <a:ext cx="6432120" cy="3962160"/>
            <a:chOff x="990720" y="2209680"/>
            <a:chExt cx="6432120" cy="39621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990720" y="2209680"/>
              <a:ext cx="643212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 flipV="1">
              <a:off x="5252040" y="4190040"/>
              <a:ext cx="964800" cy="1080360"/>
            </a:xfrm>
            <a:prstGeom prst="line">
              <a:avLst/>
            </a:prstGeom>
            <a:ln w="7632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28040" y="3560400"/>
              <a:ext cx="24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dient dir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5639400" y="39625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’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604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95440" y="304920"/>
            <a:ext cx="8172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radient descent algorithm, we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t+1) 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t) – F’(w(t))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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fore the ball goes downhill  since – F’(w(t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downhill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6581880" cy="3581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5656320" y="4457520"/>
            <a:ext cx="987480" cy="97596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23680" y="388764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800600"/>
            <a:ext cx="6858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87692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lvio Simani</cp:lastModifiedBy>
  <dcterms:modified xsi:type="dcterms:W3CDTF">2004-03-23T17:13:09Z</dcterms:modified>
  <cp:revision>57</cp:revision>
  <dc:subject/>
  <dc:title>PowerPoint Presentation</dc:title>
</cp:coreProperties>
</file>