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C6C-A5FF-4DE5-8AD0-ECFADEB3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5D4-2441-4CD1-8CD2-867B30A6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4BE-34A1-4D94-9B7F-A6C1E1A7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C9F-32D8-4640-B227-E1E91A0C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2CD-154C-4AB3-9E81-B26D69C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52E-48FD-41F1-BD6F-3F5D658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36C-1851-4BD4-BD38-6224A544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914-8491-46A7-85BF-50D5A494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B3E-34C2-4314-9F1F-7927FE4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060-02C6-47D0-871C-8410DDC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E16-255F-49B3-90E8-82E6CA7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714-AFB8-49DD-AF23-BFFF70B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7D0-AFEA-4B0A-B106-802D95FA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Matisse ITC"/>
              </a:rPr>
              <a:t>Applicatio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Matisse ITC"/>
              </a:rPr>
              <a:t>Lecture 9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Matisse ITC"/>
              </a:rPr>
              <a:t>Nonlinear Identification, Prediction a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d1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353040" cy="261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4" name="id2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4568760" cy="3586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5" name="id3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387960" cy="2446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834480" y="22860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Nonlinear System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5334120"/>
            <a:ext cx="4800600" cy="1292040"/>
          </a:xfrm>
          <a:prstGeom prst="rect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arget fun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     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k+1) = f(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dentified fun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k+1) = F(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stimation err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     e(k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8120" y="0"/>
            <a:ext cx="82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Nonlinear System Neur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n1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419720" cy="2552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0" name="con2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03640" cy="2576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35440" y="3886200"/>
            <a:ext cx="4253040" cy="228852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eference/desir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: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ystem output/desired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: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ystem input/controlle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: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 controll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etwor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r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5520" y="3733920"/>
            <a:ext cx="4079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he goal of training is to find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ppropriate plant contro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he desired respons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. The weigh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re adjusted based on the dif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etween the outputs of th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 &amp; II to minimis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n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twork I is trained so that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y = d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etworks act as inverse dynamics identifier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Nonlinear System Ident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600280" cy="2724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409920" cy="2343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962160" cy="1257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90720" y="5562720"/>
            <a:ext cx="4933800" cy="10620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246720" y="4495680"/>
            <a:ext cx="21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eural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pu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Nonlinear System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48440" cy="8474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3724560" cy="5810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31720" y="3276720"/>
            <a:ext cx="28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eural network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62520" y="2819520"/>
            <a:ext cx="5010120" cy="38098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04200" y="4724280"/>
            <a:ext cx="323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 New Roman"/>
              </a:rPr>
              <a:t>Neural network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Times New Roman"/>
              </a:rPr>
              <a:t>(angle &amp; velo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Model Referenc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712960" cy="3048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419720" cy="305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5181480"/>
            <a:ext cx="3695760" cy="133056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4267440" y="4419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ntenna arm non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7320" y="556272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cc99"/>
                </a:solidFill>
                <a:latin typeface="Times New Roman"/>
              </a:rPr>
              <a:t>Linear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cc99"/>
                </a:solidFill>
                <a:latin typeface="Times New Roman"/>
              </a:rPr>
              <a:t>Model Referenc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1465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828800" y="3352680"/>
            <a:ext cx="5743440" cy="259092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744200" y="266688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eural controller + nonlinear system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7160" y="61722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eural controller, reference model, neur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6002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7924320" y="1600200"/>
            <a:ext cx="885960" cy="3657600"/>
          </a:xfrm>
          <a:custGeom>
            <a:avLst/>
            <a:gdLst>
              <a:gd name="textAreaLeft" fmla="*/ 118440 w 885960"/>
              <a:gd name="textAreaRight" fmla="*/ 767520 w 88596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15200" y="60958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0"/>
            <a:ext cx="883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99"/>
                </a:solidFill>
                <a:latin typeface="Times New Roman"/>
              </a:rPr>
              <a:t>Matlab NNtool GUI (Graphical User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08:53:50Z</dcterms:created>
  <dc:creator>Silvio Simani</dc:creator>
  <dc:description/>
  <dc:language>en-US</dc:language>
  <cp:lastModifiedBy>Silvio Simani</cp:lastModifiedBy>
  <dcterms:modified xsi:type="dcterms:W3CDTF">2004-03-24T22:12:24Z</dcterms:modified>
  <cp:revision>9</cp:revision>
  <dc:subject/>
  <dc:title>PowerPoint Presentation</dc:title>
</cp:coreProperties>
</file>