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806-BF26-4795-840E-599D7A45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86A-B61C-4EE6-880E-B64C7EDD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700-42A3-4B7E-8000-104D35B5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463-6256-4F59-BAB9-373F14C5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ED31-86AB-4441-85DB-47FC2BAD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1407-D643-45FC-BA13-3481A162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F763-8323-48E0-9A0B-80720433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9E6D-2D37-481E-A1C2-7E738F93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ED2E-7EB8-40ED-863B-6FF9E9A1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23840" y="-360"/>
            <a:ext cx="779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6BAB-9BC9-4411-9A0E-015EB13B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FF5D-EB9C-40D4-8461-A5258228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6A0-14AC-4C9C-B44A-5E1789A6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FD4C-68E1-44F2-8D4D-C7D3175B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CDDF-8D8F-4459-8748-A194D016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DF1D-6FF2-4403-A7C9-E4B1CE9E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41FE-0B46-4256-8629-0FC9FA74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D972-D389-4655-A2DA-5F6D50FF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EB8-46CE-4B0D-90B0-9791DAEE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70E-BF8E-415D-A9A8-1F9B3392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2B1-D98F-4546-87E7-90AC1553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23840" y="-360"/>
            <a:ext cx="779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445-9A70-4DEB-BD29-C42BE76C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EEE-5DCA-4378-A084-057E2BC4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390-9179-4E32-86D6-FAC72147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E9E-F3FA-43F9-A21D-9478CD65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48096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48096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9032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90324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016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37296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16352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B7CA-4ACA-42F0-B9F3-622A5E365C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540D-6DD8-4707-9192-81657DCAAF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s.felk.cvut.cz/~xobitko/ga/dna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Matisse ITC"/>
              </a:rPr>
              <a:t>Lecture 8 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0000"/>
                </a:solidFill>
                <a:latin typeface="Matisse ITC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371240" y="1609560"/>
            <a:ext cx="65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Matisse ITC"/>
              </a:rPr>
              <a:t>Alternative training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4691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story Backgroun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 of evolutionary computing was introduced in the 1960s by I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henber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his work "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volution strateg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olutionsstrategi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original). His idea was then developed by other researcher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 Algorithm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GAs) were invented by Joh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ll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developed by him and his students and colleagues. This lead to Holland's book "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aption in Natural and Artificial System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 published in 1975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1992 Joh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z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d genetic algorithm to evolve programs to perform certain tasks. He called his method 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tic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 (GP). LISP programs were used, because programs in this language can expressed in the form of a "parse tree", which is the object the GA works 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Biological Backgr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romo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living organisms consist of cells. In each cell there is the same set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romoso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hromosomes are strings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N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nd serves as a model for the whole organism. A chromosome consist o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locks of DNA. Each gene encodes a particular protein. Basically can be said, that each gene encodes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for example color of eyes. Possible settings for a trait (e.g. blue, brown) are call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Each gene has its own position in the chromosome. This position is call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c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 set of genetic material (all chromosomes) is call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Particular set of genes in genome is call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oty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 genotype is with later development after birth base for the organism'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enoty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s physical and mental characteristics, such as eye color, intelligence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Biological Backgr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produ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ing reproduction, first occur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ombin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oss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 Genes from parents form in some way the whole new chromosome. The new created offspring can then be mutated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u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ans, that the elements of DNA are a bit changed. This changes are mainly caused by errors in copying genes from paren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tnes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an organism is measured by success of the organism in its lif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333399"/>
                </a:solidFill>
                <a:latin typeface="Tahoma"/>
              </a:rPr>
              <a:t>Evolutionary Compu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sed on evolution as it occurs in nat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amarck, Darwin, Wallace: evolution of species, survival of the fit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endel: genetics provides inheritance 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ence “genetic algorithm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ssentially a massively parallel search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rt with random population of individu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Gradually move to better individu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097320" y="2354400"/>
            <a:ext cx="3045960" cy="2960280"/>
            <a:chOff x="6097320" y="2354400"/>
            <a:chExt cx="3045960" cy="2960280"/>
          </a:xfrm>
        </p:grpSpPr>
        <p:grpSp>
          <p:nvGrpSpPr>
            <p:cNvPr id="110" name=""/>
            <p:cNvGrpSpPr/>
            <p:nvPr/>
          </p:nvGrpSpPr>
          <p:grpSpPr>
            <a:xfrm>
              <a:off x="6097320" y="2895840"/>
              <a:ext cx="3045960" cy="2418840"/>
              <a:chOff x="6097320" y="2895840"/>
              <a:chExt cx="3045960" cy="2418840"/>
            </a:xfrm>
          </p:grpSpPr>
          <p:sp>
            <p:nvSpPr>
              <p:cNvPr id="111" name=""/>
              <p:cNvSpPr/>
              <p:nvPr/>
            </p:nvSpPr>
            <p:spPr>
              <a:xfrm>
                <a:off x="6147360" y="2895840"/>
                <a:ext cx="2995920" cy="228564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354000" y="3058920"/>
                <a:ext cx="2531160" cy="1795680"/>
              </a:xfrm>
              <a:custGeom>
                <a:avLst/>
                <a:gdLst/>
                <a:ahLst/>
                <a:rect l="l" t="t" r="r" b="b"/>
                <a:pathLst>
                  <a:path w="1968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1968" y="1344"/>
                    </a:ln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333399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7360" y="4854960"/>
                <a:ext cx="3330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54000" y="3331080"/>
                <a:ext cx="2531160" cy="1523880"/>
              </a:xfrm>
              <a:custGeom>
                <a:avLst/>
                <a:gdLst/>
                <a:ahLst/>
                <a:rect l="l" t="t" r="r" b="b"/>
                <a:pathLst>
                  <a:path w="2208" h="1048">
                    <a:moveTo>
                      <a:pt x="0" y="1048"/>
                    </a:moveTo>
                    <a:cubicBezTo>
                      <a:pt x="148" y="916"/>
                      <a:pt x="296" y="784"/>
                      <a:pt x="432" y="616"/>
                    </a:cubicBezTo>
                    <a:cubicBezTo>
                      <a:pt x="568" y="448"/>
                      <a:pt x="648" y="80"/>
                      <a:pt x="816" y="40"/>
                    </a:cubicBezTo>
                    <a:cubicBezTo>
                      <a:pt x="984" y="0"/>
                      <a:pt x="1256" y="264"/>
                      <a:pt x="1440" y="376"/>
                    </a:cubicBezTo>
                    <a:cubicBezTo>
                      <a:pt x="1624" y="488"/>
                      <a:pt x="1792" y="640"/>
                      <a:pt x="1920" y="712"/>
                    </a:cubicBezTo>
                    <a:cubicBezTo>
                      <a:pt x="2048" y="784"/>
                      <a:pt x="2128" y="796"/>
                      <a:pt x="2208" y="808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e4a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97320" y="3166560"/>
                <a:ext cx="2829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6469200" y="2354400"/>
              <a:ext cx="2629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henotype 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33520" y="4335480"/>
            <a:ext cx="2819520" cy="2295720"/>
            <a:chOff x="533520" y="4335480"/>
            <a:chExt cx="2819520" cy="2295720"/>
          </a:xfrm>
        </p:grpSpPr>
        <p:sp>
          <p:nvSpPr>
            <p:cNvPr id="118" name=""/>
            <p:cNvSpPr/>
            <p:nvPr/>
          </p:nvSpPr>
          <p:spPr>
            <a:xfrm>
              <a:off x="1046160" y="433548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combin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189800">
              <a:off x="2552400" y="5829120"/>
              <a:ext cx="380880" cy="1218960"/>
            </a:xfrm>
            <a:custGeom>
              <a:avLst/>
              <a:gdLst/>
              <a:ahLst/>
              <a:rect l="l" t="t" r="r" b="b"/>
              <a:pathLst>
                <a:path w="144" h="864">
                  <a:moveTo>
                    <a:pt x="144" y="0"/>
                  </a:moveTo>
                  <a:cubicBezTo>
                    <a:pt x="72" y="120"/>
                    <a:pt x="0" y="240"/>
                    <a:pt x="0" y="384"/>
                  </a:cubicBezTo>
                  <a:cubicBezTo>
                    <a:pt x="0" y="528"/>
                    <a:pt x="72" y="696"/>
                    <a:pt x="144" y="864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33520" y="4800600"/>
              <a:ext cx="2133360" cy="1447920"/>
              <a:chOff x="533520" y="4800600"/>
              <a:chExt cx="2133360" cy="1447920"/>
            </a:xfrm>
          </p:grpSpPr>
          <p:sp>
            <p:nvSpPr>
              <p:cNvPr id="121" name=""/>
              <p:cNvSpPr/>
              <p:nvPr/>
            </p:nvSpPr>
            <p:spPr>
              <a:xfrm>
                <a:off x="533520" y="4800600"/>
                <a:ext cx="2133360" cy="1447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e4a8"/>
                  </a:gs>
                </a:gsLst>
                <a:lin ang="13500000"/>
              </a:gra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14040" y="5029200"/>
                <a:ext cx="838080" cy="457200"/>
              </a:xfrm>
              <a:prstGeom prst="rect">
                <a:avLst/>
              </a:prstGeom>
              <a:solidFill>
                <a:srgbClr val="0033cc"/>
              </a:solidFill>
              <a:ln w="572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0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14040" y="5639040"/>
                <a:ext cx="838080" cy="457200"/>
              </a:xfrm>
              <a:prstGeom prst="rect">
                <a:avLst/>
              </a:prstGeom>
              <a:solidFill>
                <a:srgbClr val="ff3300"/>
              </a:solidFill>
              <a:ln w="572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01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380880" y="1363680"/>
            <a:ext cx="1523880" cy="3208320"/>
            <a:chOff x="380880" y="1363680"/>
            <a:chExt cx="1523880" cy="3208320"/>
          </a:xfrm>
        </p:grpSpPr>
        <p:grpSp>
          <p:nvGrpSpPr>
            <p:cNvPr id="125" name=""/>
            <p:cNvGrpSpPr/>
            <p:nvPr/>
          </p:nvGrpSpPr>
          <p:grpSpPr>
            <a:xfrm>
              <a:off x="380880" y="1905120"/>
              <a:ext cx="1523880" cy="1447920"/>
              <a:chOff x="380880" y="1905120"/>
              <a:chExt cx="1523880" cy="1447920"/>
            </a:xfrm>
          </p:grpSpPr>
          <p:sp>
            <p:nvSpPr>
              <p:cNvPr id="126" name=""/>
              <p:cNvSpPr/>
              <p:nvPr/>
            </p:nvSpPr>
            <p:spPr>
              <a:xfrm>
                <a:off x="380880" y="1905120"/>
                <a:ext cx="1523880" cy="1447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e4a8"/>
                  </a:gs>
                </a:gsLst>
                <a:lin ang="13500000"/>
              </a:gra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1760" y="2133720"/>
                <a:ext cx="837720" cy="457200"/>
              </a:xfrm>
              <a:prstGeom prst="rect">
                <a:avLst/>
              </a:prstGeom>
              <a:solidFill>
                <a:srgbClr val="ff33cc"/>
              </a:solidFill>
              <a:ln w="572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0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1760" y="2743200"/>
                <a:ext cx="837720" cy="457200"/>
              </a:xfrm>
              <a:prstGeom prst="rect">
                <a:avLst/>
              </a:prstGeom>
              <a:solidFill>
                <a:srgbClr val="ff33cc"/>
              </a:solidFill>
              <a:ln w="572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97080" y="136368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u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160" y="3429000"/>
              <a:ext cx="380880" cy="1143000"/>
            </a:xfrm>
            <a:custGeom>
              <a:avLst/>
              <a:gdLst/>
              <a:ahLst/>
              <a:rect l="l" t="t" r="r" b="b"/>
              <a:pathLst>
                <a:path w="144" h="864">
                  <a:moveTo>
                    <a:pt x="144" y="0"/>
                  </a:moveTo>
                  <a:cubicBezTo>
                    <a:pt x="72" y="120"/>
                    <a:pt x="0" y="240"/>
                    <a:pt x="0" y="384"/>
                  </a:cubicBezTo>
                  <a:cubicBezTo>
                    <a:pt x="0" y="528"/>
                    <a:pt x="72" y="696"/>
                    <a:pt x="144" y="864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7057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Evolutionary Alg</a:t>
            </a:r>
            <a:r>
              <a:rPr b="0" lang="sv-SE" sz="4000" spc="-1" strike="noStrike">
                <a:solidFill>
                  <a:srgbClr val="0000ff"/>
                </a:solidFill>
                <a:latin typeface="Tahoma"/>
              </a:rPr>
              <a:t>orith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762280" y="1363680"/>
            <a:ext cx="3693600" cy="2370240"/>
            <a:chOff x="2762280" y="1363680"/>
            <a:chExt cx="3693600" cy="2370240"/>
          </a:xfrm>
        </p:grpSpPr>
        <p:grpSp>
          <p:nvGrpSpPr>
            <p:cNvPr id="133" name=""/>
            <p:cNvGrpSpPr/>
            <p:nvPr/>
          </p:nvGrpSpPr>
          <p:grpSpPr>
            <a:xfrm>
              <a:off x="2895480" y="1905120"/>
              <a:ext cx="3047760" cy="1828800"/>
              <a:chOff x="2895480" y="1905120"/>
              <a:chExt cx="3047760" cy="182880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905120"/>
                <a:ext cx="3047760" cy="18288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00040" y="2514600"/>
                <a:ext cx="838440" cy="45720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001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4280" y="2667240"/>
                <a:ext cx="838080" cy="45720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14440" y="2057400"/>
                <a:ext cx="838440" cy="45720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0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33560" y="3124440"/>
                <a:ext cx="838080" cy="45720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010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62280" y="1363680"/>
              <a:ext cx="3693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opulation of geno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035600" y="3505320"/>
            <a:ext cx="4345560" cy="1143000"/>
            <a:chOff x="4035600" y="3505320"/>
            <a:chExt cx="4345560" cy="1143000"/>
          </a:xfrm>
        </p:grpSpPr>
        <p:grpSp>
          <p:nvGrpSpPr>
            <p:cNvPr id="141" name=""/>
            <p:cNvGrpSpPr/>
            <p:nvPr/>
          </p:nvGrpSpPr>
          <p:grpSpPr>
            <a:xfrm>
              <a:off x="4647960" y="3505320"/>
              <a:ext cx="3733200" cy="1143000"/>
              <a:chOff x="4647960" y="3505320"/>
              <a:chExt cx="3733200" cy="1143000"/>
            </a:xfrm>
          </p:grpSpPr>
          <p:sp>
            <p:nvSpPr>
              <p:cNvPr id="142" name=""/>
              <p:cNvSpPr/>
              <p:nvPr/>
            </p:nvSpPr>
            <p:spPr>
              <a:xfrm>
                <a:off x="4647960" y="3505320"/>
                <a:ext cx="2057040" cy="6094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81320" y="4038840"/>
                <a:ext cx="228240" cy="228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009920" y="3505320"/>
                <a:ext cx="228240" cy="22860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152920" y="4038840"/>
                <a:ext cx="22824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76400" y="4419720"/>
                <a:ext cx="228240" cy="22860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035600" y="3878280"/>
              <a:ext cx="234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ding sche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971800" y="3657600"/>
            <a:ext cx="5181120" cy="3048120"/>
            <a:chOff x="2971800" y="3657600"/>
            <a:chExt cx="5181120" cy="3048120"/>
          </a:xfrm>
        </p:grpSpPr>
        <p:grpSp>
          <p:nvGrpSpPr>
            <p:cNvPr id="149" name=""/>
            <p:cNvGrpSpPr/>
            <p:nvPr/>
          </p:nvGrpSpPr>
          <p:grpSpPr>
            <a:xfrm>
              <a:off x="2971800" y="3657600"/>
              <a:ext cx="5181120" cy="3048120"/>
              <a:chOff x="2971800" y="3657600"/>
              <a:chExt cx="5181120" cy="3048120"/>
            </a:xfrm>
          </p:grpSpPr>
          <p:sp>
            <p:nvSpPr>
              <p:cNvPr id="150" name=""/>
              <p:cNvSpPr/>
              <p:nvPr/>
            </p:nvSpPr>
            <p:spPr>
              <a:xfrm>
                <a:off x="2971800" y="4876920"/>
                <a:ext cx="3047760" cy="18288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5410080" y="4267440"/>
                <a:ext cx="2742840" cy="12189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12160" y="5326200"/>
                <a:ext cx="11271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itn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428640" y="3657600"/>
                <a:ext cx="304560" cy="1371600"/>
              </a:xfrm>
              <a:custGeom>
                <a:avLst/>
                <a:gdLst/>
                <a:ahLst/>
                <a:rect l="l" t="t" r="r" b="b"/>
                <a:pathLst>
                  <a:path w="144" h="864">
                    <a:moveTo>
                      <a:pt x="144" y="0"/>
                    </a:moveTo>
                    <a:cubicBezTo>
                      <a:pt x="72" y="120"/>
                      <a:pt x="0" y="240"/>
                      <a:pt x="0" y="384"/>
                    </a:cubicBezTo>
                    <a:cubicBezTo>
                      <a:pt x="0" y="528"/>
                      <a:pt x="72" y="696"/>
                      <a:pt x="144" y="864"/>
                    </a:cubicBezTo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59480" y="4335480"/>
                <a:ext cx="14594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elec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800240" y="5639040"/>
              <a:ext cx="838080" cy="457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90760" y="5029200"/>
              <a:ext cx="837720" cy="457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6096240"/>
              <a:ext cx="837720" cy="457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1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040" y="5562720"/>
              <a:ext cx="838080" cy="457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1828800"/>
            <a:ext cx="1523880" cy="1447920"/>
            <a:chOff x="380880" y="1828800"/>
            <a:chExt cx="1523880" cy="1447920"/>
          </a:xfrm>
        </p:grpSpPr>
        <p:sp>
          <p:nvSpPr>
            <p:cNvPr id="160" name=""/>
            <p:cNvSpPr/>
            <p:nvPr/>
          </p:nvSpPr>
          <p:spPr>
            <a:xfrm>
              <a:off x="380880" y="1828800"/>
              <a:ext cx="1523880" cy="1447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760" y="2057400"/>
              <a:ext cx="838080" cy="457200"/>
            </a:xfrm>
            <a:prstGeom prst="rect">
              <a:avLst/>
            </a:prstGeom>
            <a:solidFill>
              <a:srgbClr val="ff33cc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2400" spc="-1" strike="noStrike">
                  <a:solidFill>
                    <a:srgbClr val="1c1c1c"/>
                  </a:solidFill>
                  <a:latin typeface="Tahom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1760" y="2667240"/>
              <a:ext cx="838080" cy="457200"/>
            </a:xfrm>
            <a:prstGeom prst="rect">
              <a:avLst/>
            </a:prstGeom>
            <a:solidFill>
              <a:srgbClr val="ff33cc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1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rot="5071200">
            <a:off x="2361960" y="1523880"/>
            <a:ext cx="304920" cy="121896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144" y="0"/>
                </a:moveTo>
                <a:cubicBezTo>
                  <a:pt x="72" y="120"/>
                  <a:pt x="0" y="240"/>
                  <a:pt x="0" y="384"/>
                </a:cubicBezTo>
                <a:cubicBezTo>
                  <a:pt x="0" y="528"/>
                  <a:pt x="72" y="696"/>
                  <a:pt x="144" y="864"/>
                </a:cubicBezTo>
              </a:path>
            </a:pathLst>
          </a:custGeom>
          <a:noFill/>
          <a:ln w="76320">
            <a:solidFill>
              <a:srgbClr val="ff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4800600"/>
            <a:ext cx="2133720" cy="1447920"/>
            <a:chOff x="457200" y="4800600"/>
            <a:chExt cx="2133720" cy="1447920"/>
          </a:xfrm>
        </p:grpSpPr>
        <p:sp>
          <p:nvSpPr>
            <p:cNvPr id="165" name=""/>
            <p:cNvSpPr/>
            <p:nvPr/>
          </p:nvSpPr>
          <p:spPr>
            <a:xfrm>
              <a:off x="457200" y="4800600"/>
              <a:ext cx="2133720" cy="1447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e4a8"/>
                </a:gs>
              </a:gsLst>
              <a:lin ang="13500000"/>
            </a:gra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029200"/>
              <a:ext cx="381240" cy="457200"/>
            </a:xfrm>
            <a:prstGeom prst="rect">
              <a:avLst/>
            </a:prstGeom>
            <a:solidFill>
              <a:srgbClr val="0033cc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5639040"/>
              <a:ext cx="381240" cy="457200"/>
            </a:xfrm>
            <a:prstGeom prst="rect">
              <a:avLst/>
            </a:prstGeom>
            <a:solidFill>
              <a:srgbClr val="ff3300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3880" y="5029200"/>
              <a:ext cx="609840" cy="457200"/>
            </a:xfrm>
            <a:prstGeom prst="rect">
              <a:avLst/>
            </a:prstGeom>
            <a:solidFill>
              <a:srgbClr val="0033cc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23880" y="5639040"/>
              <a:ext cx="609840" cy="457200"/>
            </a:xfrm>
            <a:prstGeom prst="rect">
              <a:avLst/>
            </a:prstGeom>
            <a:solidFill>
              <a:srgbClr val="ff3300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71600" y="4876920"/>
              <a:ext cx="0" cy="1371600"/>
            </a:xfrm>
            <a:prstGeom prst="line">
              <a:avLst/>
            </a:prstGeom>
            <a:ln w="7632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57200" y="4800600"/>
            <a:ext cx="2133720" cy="1447920"/>
            <a:chOff x="457200" y="4800600"/>
            <a:chExt cx="2133720" cy="1447920"/>
          </a:xfrm>
        </p:grpSpPr>
        <p:sp>
          <p:nvSpPr>
            <p:cNvPr id="172" name=""/>
            <p:cNvSpPr/>
            <p:nvPr/>
          </p:nvSpPr>
          <p:spPr>
            <a:xfrm>
              <a:off x="457200" y="4800600"/>
              <a:ext cx="2133720" cy="1447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e4a8"/>
                </a:gs>
              </a:gsLst>
              <a:lin ang="13500000"/>
            </a:gra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080" y="5029200"/>
              <a:ext cx="381240" cy="457200"/>
            </a:xfrm>
            <a:prstGeom prst="rect">
              <a:avLst/>
            </a:prstGeom>
            <a:solidFill>
              <a:srgbClr val="0033cc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080" y="5639040"/>
              <a:ext cx="381240" cy="457200"/>
            </a:xfrm>
            <a:prstGeom prst="rect">
              <a:avLst/>
            </a:prstGeom>
            <a:solidFill>
              <a:srgbClr val="ff3300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5280" y="5639040"/>
              <a:ext cx="609840" cy="457200"/>
            </a:xfrm>
            <a:prstGeom prst="rect">
              <a:avLst/>
            </a:prstGeom>
            <a:solidFill>
              <a:srgbClr val="0033cc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95280" y="5029200"/>
              <a:ext cx="609840" cy="457200"/>
            </a:xfrm>
            <a:prstGeom prst="rect">
              <a:avLst/>
            </a:prstGeom>
            <a:solidFill>
              <a:srgbClr val="ff3300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80880" y="4800600"/>
            <a:ext cx="2133360" cy="1447920"/>
            <a:chOff x="380880" y="4800600"/>
            <a:chExt cx="2133360" cy="1447920"/>
          </a:xfrm>
        </p:grpSpPr>
        <p:sp>
          <p:nvSpPr>
            <p:cNvPr id="178" name=""/>
            <p:cNvSpPr/>
            <p:nvPr/>
          </p:nvSpPr>
          <p:spPr>
            <a:xfrm>
              <a:off x="380880" y="4800600"/>
              <a:ext cx="2133360" cy="1447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1760" y="5029200"/>
              <a:ext cx="838080" cy="457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1760" y="5639040"/>
              <a:ext cx="838080" cy="457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1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Pseudo Code of an Evolutionary Alg</a:t>
            </a:r>
            <a:r>
              <a:rPr b="0" lang="sv-SE" sz="3600" spc="-1" strike="noStrike">
                <a:solidFill>
                  <a:srgbClr val="0000ff"/>
                </a:solidFill>
                <a:latin typeface="Tahoma"/>
              </a:rPr>
              <a:t>orith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1531800" y="1287360"/>
            <a:ext cx="5615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Create initial random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25720" y="5268960"/>
            <a:ext cx="29926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Mutate off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09280" y="2894040"/>
            <a:ext cx="9122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1828800"/>
            <a:ext cx="0" cy="262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590920"/>
            <a:ext cx="0" cy="261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37080" y="3402000"/>
            <a:ext cx="0" cy="262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37080" y="4187880"/>
            <a:ext cx="0" cy="261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37080" y="4973760"/>
            <a:ext cx="0" cy="261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37080" y="5757840"/>
            <a:ext cx="0" cy="262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31240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79560" y="2540160"/>
            <a:ext cx="732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1160" y="3200400"/>
            <a:ext cx="615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901880"/>
            <a:ext cx="3832200" cy="4386240"/>
          </a:xfrm>
          <a:custGeom>
            <a:avLst/>
            <a:gdLst/>
            <a:ahLst/>
            <a:rect l="l" t="t" r="r" b="b"/>
            <a:pathLst>
              <a:path w="2640" h="3216">
                <a:moveTo>
                  <a:pt x="432" y="3216"/>
                </a:moveTo>
                <a:lnTo>
                  <a:pt x="0" y="3216"/>
                </a:lnTo>
                <a:lnTo>
                  <a:pt x="0" y="0"/>
                </a:lnTo>
                <a:lnTo>
                  <a:pt x="2640" y="0"/>
                </a:lnTo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0800" y="4471920"/>
            <a:ext cx="7076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Recombine parents to generate off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73160" y="2057400"/>
            <a:ext cx="6581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Evaluate fitness of each individual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63280" y="2819520"/>
            <a:ext cx="5218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ermination criteria satisfi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3657600"/>
            <a:ext cx="58309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elect parents according to fitness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6019920"/>
            <a:ext cx="59644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Replace population by new off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A Simple Genetic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219320"/>
            <a:ext cx="878364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task : find the maximum of f(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 f(x)=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•sin(x)  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0,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y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binary 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 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0,1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010, 01011, 1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pping : genotype 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nary integer encod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000000"/>
                </a:solidFill>
                <a:latin typeface="Math1"/>
                <a:ea typeface="Math1"/>
              </a:rPr>
              <a:t>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Math1"/>
                <a:ea typeface="Math1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=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=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-i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-393480" y="3581280"/>
            <a:ext cx="10661400" cy="2379960"/>
            <a:chOff x="-393480" y="3581280"/>
            <a:chExt cx="10661400" cy="2379960"/>
          </a:xfrm>
        </p:grpSpPr>
        <p:sp>
          <p:nvSpPr>
            <p:cNvPr id="203" name=""/>
            <p:cNvSpPr/>
            <p:nvPr/>
          </p:nvSpPr>
          <p:spPr>
            <a:xfrm>
              <a:off x="-393480" y="4038480"/>
              <a:ext cx="10661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genotyp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integ.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phenotype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fitness</a:t>
              </a:r>
              <a:r>
                <a:rPr b="0" lang="sv-SE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prop. fitn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11010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26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2.6349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1.2787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 30%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01011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11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1.1148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1.0008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 24%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10001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17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1.7228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1.7029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 40%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00101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5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0.5067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0.2459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6%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93960" y="3581280"/>
              <a:ext cx="263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ahoma"/>
                </a:rPr>
                <a:t>Initial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333399"/>
                </a:solidFill>
                <a:latin typeface="Tahoma"/>
              </a:rPr>
              <a:t>Some Other Issues Regarding Evolutionary Compu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volution according to Lamar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ividual adapts during life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aptations inherited by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 nature, genes don’t change; but for computations we could allow thi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ldwin eff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ividual’s ability to learn has positive effect on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t supports a more diverse gen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us, more “experimentation” with gene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22:56:10Z</dcterms:created>
  <dc:creator>Frank Hoffmann</dc:creator>
  <dc:description/>
  <dc:language>en-US</dc:language>
  <cp:lastModifiedBy>Silvio Simani</cp:lastModifiedBy>
  <dcterms:modified xsi:type="dcterms:W3CDTF">2004-03-24T22:00:45Z</dcterms:modified>
  <cp:revision>84</cp:revision>
  <dc:subject/>
  <dc:title>Intelligent Data Analysis</dc:title>
</cp:coreProperties>
</file>