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985-785B-4D64-AF22-7B9891B2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506-F6D5-4FCF-BD38-4D895FFB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6E8-B52F-456A-BAF4-88DEA44B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FC4-F931-479E-91F7-0F08D163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E71-4D05-4C9D-B10F-A201173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0EA-E5EF-4521-BC5C-520EBF9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8C4-5F44-4D14-BB74-1F45DD84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1C7-EB18-4936-9087-44945B22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DCD-C276-46BE-B970-0D5C5E0F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23F-D23D-4D8A-A12B-D07D3E90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3A9-E053-4197-909D-FDFD36D7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EAC-84CD-4155-81F3-27B96233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3176-0A11-48AD-9671-59809E8F8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atisse ITC"/>
              </a:rPr>
              <a:t>Lecture 7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Matisse ITC"/>
              </a:rPr>
              <a:t>Radial Basis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atisse ITC"/>
              </a:rPr>
              <a:t>Radial Basis Fun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840" y="304920"/>
            <a:ext cx="780804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o s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ummariz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given  data set containing N points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=1,…,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a RBF functio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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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ne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quation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=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the unique solu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n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657600"/>
            <a:ext cx="87631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MLP’s, RBFNs can be shown to be able to approximate any function to arbitrary accuracy (using an arbitrarily large numbers of basis function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ike MLP’s, however, they have the property of ‘best approximation’ i.e.  there exists an RBFN with minimum approximation err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arge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=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12392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mall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= 0.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39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7760" y="228600"/>
            <a:ext cx="8682480" cy="59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Problems with exact interpo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produce poor generalisation performance as only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ints constrai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fitting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Bishop(1995)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derlying function f(x)=0.5+0.4sine(2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mpled randomly for 30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ed Gaussian noise  to each data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0 data points    30 hidden RBF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ts all data points but creates oscillations due added no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d unconstrained between data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572000" cy="3335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11760" y="838080"/>
            <a:ext cx="4332240" cy="3353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12680" y="47926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ata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00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Basis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533520"/>
            <a:ext cx="868680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fi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RBF to ever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ata point is very ineffici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e to the computational cost of matrix inversion and is very bad for generalization 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ess RBF’s tha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ata 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M&lt;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 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’t necessarily have RBFs centred at data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clude bias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Gaussian with general covariance matrices but there is a trade-off between complexity and the number of parameters to be found eg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bfs we ha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52280"/>
            <a:ext cx="8839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adial-basis function (RBF) 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B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radial-basis functi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a functio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ch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epen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only o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adi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istance from a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52280" y="2590560"/>
            <a:ext cx="4616640" cy="4043160"/>
            <a:chOff x="152280" y="2590560"/>
            <a:chExt cx="4616640" cy="4043160"/>
          </a:xfrm>
        </p:grpSpPr>
        <p:sp>
          <p:nvSpPr>
            <p:cNvPr id="45" name=""/>
            <p:cNvSpPr/>
            <p:nvPr/>
          </p:nvSpPr>
          <p:spPr>
            <a:xfrm>
              <a:off x="152280" y="5578560"/>
              <a:ext cx="45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217520" y="2590560"/>
              <a:ext cx="0" cy="404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87480" y="5292720"/>
              <a:ext cx="401760" cy="4557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92440" y="3241800"/>
              <a:ext cx="403200" cy="4554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7480" y="3241800"/>
              <a:ext cx="520560" cy="51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5080" y="5351400"/>
              <a:ext cx="520560" cy="514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440000">
              <a:off x="236520" y="3846600"/>
              <a:ext cx="4627440" cy="11793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010480" y="3178080"/>
            <a:ext cx="3183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XOR probl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uadratically separ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919920" y="4390920"/>
            <a:ext cx="18144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847260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Tahoma"/>
              </a:rPr>
              <a:t>Radial-basis function (RBF)  netwo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BFs   are   functions taking th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s a nonlinear activation function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input and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’th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prototype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entr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dea is that points near the centres will have similar outputs (i.e. i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~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then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 ~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y should have similar proper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implest i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the linear RBF :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x) =||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|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66680" y="1447920"/>
                <a:ext cx="5715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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822960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03320"/>
            <a:ext cx="762012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</a:t>
            </a: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ypical RBFs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a)  Multiquadr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 some c&gt;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b) Inverse  multiquadr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 some c&gt;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ahoma"/>
              <a:buAutoNum type="alphaLcParenR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auss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ahoma"/>
              <a:buAutoNum type="alphaLcParenR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514600" y="1295280"/>
                <a:ext cx="434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76520" y="3276720"/>
                <a:ext cx="51814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76520" y="4876920"/>
                <a:ext cx="3504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6629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9920" y="6248520"/>
            <a:ext cx="31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nlocalized’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06480" y="6400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ized’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80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is to use a weighted sum of the outputs from the basis functions to represent the dat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 centers can be thought of as prototypes of input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647960" cy="34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5880" y="4324320"/>
            <a:ext cx="5335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530800">
            <a:off x="5333760" y="2495520"/>
            <a:ext cx="45720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31050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5320" y="3409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440" y="334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9720" y="4567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9240" y="334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334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73640" y="4567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105520" y="3562200"/>
            <a:ext cx="30456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105520" y="3638520"/>
            <a:ext cx="21333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105520" y="470520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6000" y="522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9760" y="446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3800" y="438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9760" y="499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5788080"/>
            <a:ext cx="45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v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B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609480"/>
            <a:ext cx="8229600" cy="152424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57200"/>
            <a:ext cx="8074080" cy="173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rting point: exact i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terpo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ach input pattern x must be mapped onto a targ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lue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57400" y="274320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962520" y="4495680"/>
            <a:ext cx="21333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95440" y="519120"/>
            <a:ext cx="831996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, 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ven a set of 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cto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nd a corresponding set of N real 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the targets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find a function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at satisfies the interpolation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F (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) =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i =1,...,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r   more exactly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tisfy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2795760"/>
            <a:ext cx="6089400" cy="4062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47920" y="3276720"/>
                <a:ext cx="6634080" cy="37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24080" y="3427560"/>
            <a:ext cx="657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9120" y="395280"/>
            <a:ext cx="50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6000" y="2004840"/>
            <a:ext cx="96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79880" y="3746520"/>
            <a:ext cx="903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7760" y="666720"/>
            <a:ext cx="355680" cy="189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47760" y="1123920"/>
            <a:ext cx="355680" cy="189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7760" y="3457440"/>
            <a:ext cx="355680" cy="1908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17760" y="233532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22280" y="63504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22280" y="1041480"/>
            <a:ext cx="42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2320" y="1003320"/>
            <a:ext cx="6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0520" y="3035160"/>
            <a:ext cx="6109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47760" y="1630440"/>
            <a:ext cx="355680" cy="1904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1960" y="666720"/>
            <a:ext cx="355680" cy="189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1960" y="1630440"/>
            <a:ext cx="355680" cy="190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1960" y="1123920"/>
            <a:ext cx="355680" cy="189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4120" y="3457440"/>
            <a:ext cx="355680" cy="190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920" y="7095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09920" y="709200"/>
            <a:ext cx="128592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09920" y="759960"/>
            <a:ext cx="119376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09920" y="709560"/>
            <a:ext cx="1285920" cy="28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920" y="709560"/>
            <a:ext cx="1285920" cy="50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17760" y="121752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509920" y="1217160"/>
            <a:ext cx="1285920" cy="50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09920" y="1217160"/>
            <a:ext cx="1285920" cy="2336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920" y="709560"/>
            <a:ext cx="1285920" cy="101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920" y="1217520"/>
            <a:ext cx="128592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920" y="17254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509920" y="1725480"/>
            <a:ext cx="128592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920" y="709560"/>
            <a:ext cx="1377720" cy="284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920" y="1268280"/>
            <a:ext cx="1377720" cy="223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17760" y="1725480"/>
            <a:ext cx="146988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920" y="3554280"/>
            <a:ext cx="1377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71960" y="233532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3520" y="2233440"/>
            <a:ext cx="606600" cy="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48200" y="2057400"/>
            <a:ext cx="120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1960" y="666720"/>
            <a:ext cx="355680" cy="189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1960" y="1123920"/>
            <a:ext cx="355680" cy="189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1960" y="1630440"/>
            <a:ext cx="355680" cy="1904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51720" y="2138400"/>
            <a:ext cx="355680" cy="1904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64120" y="709560"/>
            <a:ext cx="2481120" cy="147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4120" y="1217520"/>
            <a:ext cx="248112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64120" y="1725480"/>
            <a:ext cx="248112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48080" y="2233440"/>
            <a:ext cx="2297160" cy="126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79800" y="2284560"/>
            <a:ext cx="0" cy="8618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14200" y="0"/>
            <a:ext cx="3985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ree-layer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85160" y="3657600"/>
            <a:ext cx="299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idden lay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27920" y="3581280"/>
            <a:ext cx="302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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y)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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90720" y="1066680"/>
            <a:ext cx="44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2514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495680"/>
            <a:ext cx="85341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utput =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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y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justable parameters a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ight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mber of hidden units = number of data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 of the basis functions decided in advan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0:38:03Z</dcterms:created>
  <dc:creator>Andy Philippides</dc:creator>
  <dc:description/>
  <dc:language>en-US</dc:language>
  <cp:lastModifiedBy>Silvio Simani</cp:lastModifiedBy>
  <dcterms:modified xsi:type="dcterms:W3CDTF">2004-03-24T21:48:46Z</dcterms:modified>
  <cp:revision>72</cp:revision>
  <dc:subject/>
  <dc:title>PowerPoint Presentation</dc:title>
</cp:coreProperties>
</file>