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342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0492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800" spc="-1" strike="noStrike">
                <a:solidFill>
                  <a:srgbClr val="ff0066"/>
                </a:solidFill>
                <a:latin typeface="Matisse ITC"/>
              </a:rPr>
              <a:t>Lecture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Matisse ITC"/>
              </a:rPr>
              <a:t>MultiLayer Perceptron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66"/>
                </a:solidFill>
                <a:latin typeface="Matisse ITC"/>
              </a:rPr>
              <a:t>Back Propagating Learning</a:t>
            </a:r>
            <a:r>
              <a:rPr b="1" lang="en-GB" sz="3600" spc="-1" strike="noStrike">
                <a:solidFill>
                  <a:srgbClr val="114ffb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8080" y="1371600"/>
            <a:ext cx="8305920" cy="10666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3200400"/>
            <a:ext cx="6629400" cy="175248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720" y="0"/>
            <a:ext cx="921564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Tahoma"/>
              </a:rPr>
              <a:t>Backward Pa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delta rule , error measure for pattern 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ant to know how to modify weights in order to decreas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for hidden units and output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an be rewritten as product of two terms using chai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1371600"/>
                <a:ext cx="4678200" cy="29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19320" y="2803680"/>
                <a:ext cx="6084720" cy="40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523880" y="2514600"/>
                <a:ext cx="579132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971800" y="457200"/>
            <a:ext cx="1523880" cy="1752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457200"/>
            <a:ext cx="1905120" cy="175248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371600" y="533520"/>
                <a:ext cx="502920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e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e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304920" y="4648320"/>
            <a:ext cx="1904760" cy="99036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2895480"/>
            <a:ext cx="1752480" cy="1219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42600" y="3124080"/>
            <a:ext cx="6708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error for pattern  changes as function of 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network  input to un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07400" y="4724280"/>
            <a:ext cx="605628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net input to un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anges as a func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in weigh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25320" y="2271600"/>
            <a:ext cx="5163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both for hidden units and output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" y="3110040"/>
            <a:ext cx="1138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4720" y="4952880"/>
            <a:ext cx="112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1295280"/>
            <a:ext cx="8305920" cy="1219320"/>
          </a:xfrm>
          <a:prstGeom prst="rect">
            <a:avLst/>
          </a:prstGeom>
          <a:solidFill>
            <a:srgbClr val="f5f5f5"/>
          </a:solidFill>
          <a:ln w="12600">
            <a:solidFill>
              <a:srgbClr val="f5f5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3048120"/>
            <a:ext cx="8305920" cy="12189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5280" y="0"/>
            <a:ext cx="3767400" cy="52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114ffb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ght updates are lo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den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62120" y="304920"/>
                <a:ext cx="518148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η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η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838080" y="2286000"/>
                <a:ext cx="624852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  <m:e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η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η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9480" y="2362320"/>
                <a:ext cx="753912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η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η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228600" y="5105520"/>
            <a:ext cx="8763120" cy="191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weight changes are computed for all units, weights are updated at same time (bias included as weights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ow compute the derivative of the activation function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09480" y="2895480"/>
            <a:ext cx="731520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671400"/>
            <a:ext cx="1814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304920"/>
            <a:ext cx="868680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Tahoma"/>
              </a:rPr>
              <a:t>Activ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to compute   we need to find the derivative of activation functio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to find derivative the activation function  must be sm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gmoidal (logistic) function-common in  M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re k is a positive constant. The sigmoidal function gives value in range of 0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Input-output function of a neuron (rate coding 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19320" y="2971800"/>
                <a:ext cx="4876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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61760" y="290520"/>
            <a:ext cx="5128200" cy="56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114ffb"/>
                </a:solidFill>
                <a:latin typeface="Tahoma"/>
              </a:rPr>
              <a:t>Shape of sigmoidal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te: when net  = 0,  f 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6400800" cy="43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52360" y="228600"/>
            <a:ext cx="8891640" cy="72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114ffb"/>
                </a:solidFill>
                <a:latin typeface="Tahoma"/>
              </a:rPr>
              <a:t>Shape of sigmoidal function deriv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rivative of sigmoidal function has max at x= 0., is symmetr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bout this point falling to zero as sigmoidal approaches extr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02920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0880" y="1143000"/>
            <a:ext cx="8382240" cy="12193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2971800"/>
            <a:ext cx="807732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-47520" y="228600"/>
            <a:ext cx="91198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o local error gradients in BP algorithm we hav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idden units we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09480" y="1295280"/>
                <a:ext cx="80010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85800" y="3124080"/>
                <a:ext cx="71420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228600" y="4876920"/>
            <a:ext cx="8748720" cy="191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degree of weight change is proportional to derivativ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ation function, weight changes will be greatest when un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s mid-range functional signal than at  extr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14400" y="4419720"/>
            <a:ext cx="6553080" cy="182880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54840" y="2786040"/>
                <a:ext cx="12672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914400" y="2743200"/>
            <a:ext cx="5791320" cy="1600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0520" y="380880"/>
            <a:ext cx="6333840" cy="62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Summary of BP learni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learning rat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initial weight values (incl.. biases)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 until stopping criteria satisfi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input pattern  to input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 functional signal for hidden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 functional signal for output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arget response   to output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 error signal for output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 error signal for hidden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 all weights at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rement n  to n+1 and select next I and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d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5029200"/>
            <a:ext cx="7696440" cy="137160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809880"/>
            <a:ext cx="7772400" cy="11430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2240" y="0"/>
            <a:ext cx="8951760" cy="68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114ffb"/>
                </a:solidFill>
                <a:latin typeface="Tahoma"/>
              </a:rPr>
              <a:t>Network train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 shown repeatedly until stopping criteria are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full presentation of all patterns = ‘epoch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ize order of training patterns presented for each epoch in order to avoid correlation between consecutive training pairs  being learnt (order eff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ypes of network trai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tial m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n-line, stochastic, or per-patter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ghts updated after each pattern is presen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tch m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ff-line or per -epo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1447920"/>
            <a:ext cx="8458200" cy="32763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5029200"/>
            <a:ext cx="8458200" cy="144792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04920"/>
            <a:ext cx="8624880" cy="63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Tahoma"/>
              </a:rPr>
              <a:t>Advantages and disadvantages of different m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tial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storage for each weighted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 order of presentation and updating per pattern means search  of weight space is stochastic--reducing risk of local minima able to take advantage of any redundancy in training set (i.e.. same pattern occurs more than once in training set, esp. for large training s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r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tch mod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er learning than sequential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49120" y="304920"/>
            <a:ext cx="8894880" cy="58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114ffb"/>
                </a:solidFill>
                <a:latin typeface="Tahoma"/>
              </a:rPr>
              <a:t>BP learning algorith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lution to credit assignment problem in ML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Rumelhart, Hinton and Williams (198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P has two phas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ward pass phase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utes ‘functional signal’, feedforward propagation of input pattern signals through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ackward pass phase: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utes ‘error signal’, propagation of error (difference between actual and desired output values) backwards  through network starting at output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781680" y="609480"/>
            <a:ext cx="1773000" cy="3960000"/>
            <a:chOff x="6781680" y="609480"/>
            <a:chExt cx="1773000" cy="3960000"/>
          </a:xfrm>
        </p:grpSpPr>
        <p:sp>
          <p:nvSpPr>
            <p:cNvPr id="42" name=""/>
            <p:cNvSpPr/>
            <p:nvPr/>
          </p:nvSpPr>
          <p:spPr>
            <a:xfrm>
              <a:off x="7183440" y="3678120"/>
              <a:ext cx="291960" cy="21600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259760" y="2382840"/>
              <a:ext cx="368280" cy="2919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39080" y="1233360"/>
              <a:ext cx="374760" cy="152640"/>
            </a:xfrm>
            <a:prstGeom prst="ellipse">
              <a:avLst/>
            </a:prstGeom>
            <a:solidFill>
              <a:srgbClr val="618ff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7481880" y="1385640"/>
              <a:ext cx="609480" cy="9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086240" y="411480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43080" y="2971800"/>
              <a:ext cx="69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6560" y="1523880"/>
              <a:ext cx="758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781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153640" y="60948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7329600" y="2681280"/>
              <a:ext cx="75960" cy="990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7481880" y="1385640"/>
              <a:ext cx="609480" cy="9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04920" y="304920"/>
            <a:ext cx="84582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114ffb"/>
                </a:solidFill>
                <a:latin typeface="Tahoma"/>
              </a:rPr>
              <a:t>BP Learning for Simplest ML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sk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{I, d}  to minim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E = (d - o)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= [d - f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W(t)y(t)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]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= [d - f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W(t)f(w(t)I)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]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unction at the output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ght at time t is w(t)and W(t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d to find  the weight w and W at time t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y = f(w(t)I), output of the hidden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7391520" y="2819520"/>
            <a:ext cx="7596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543800" y="1523520"/>
            <a:ext cx="5335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2438280"/>
            <a:ext cx="380880" cy="304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3733920"/>
            <a:ext cx="30492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228600"/>
            <a:ext cx="5865840" cy="60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114ffb"/>
                </a:solidFill>
                <a:latin typeface="Tahoma"/>
              </a:rPr>
              <a:t>Forward pass 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that we have w(t), W(t) of tim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given input I, we can calcu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= f(w(t)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=  f ( W(t)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 f ( W(t) f( w(t) I 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unction of output unit will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=  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(d - o)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933960" y="1295280"/>
            <a:ext cx="1772640" cy="3960000"/>
            <a:chOff x="6933960" y="1295280"/>
            <a:chExt cx="1772640" cy="3960000"/>
          </a:xfrm>
        </p:grpSpPr>
        <p:sp>
          <p:nvSpPr>
            <p:cNvPr id="60" name=""/>
            <p:cNvSpPr/>
            <p:nvPr/>
          </p:nvSpPr>
          <p:spPr>
            <a:xfrm>
              <a:off x="7335720" y="4363920"/>
              <a:ext cx="291600" cy="216000"/>
            </a:xfrm>
            <a:prstGeom prst="ellips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412040" y="3068640"/>
              <a:ext cx="367920" cy="2919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91360" y="1919160"/>
              <a:ext cx="374400" cy="152640"/>
            </a:xfrm>
            <a:prstGeom prst="ellipse">
              <a:avLst/>
            </a:prstGeom>
            <a:solidFill>
              <a:srgbClr val="618ff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7634160" y="2071440"/>
              <a:ext cx="609120" cy="9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8160" y="480060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95360" y="3657600"/>
              <a:ext cx="69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08480" y="2209680"/>
              <a:ext cx="758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33960" y="30481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05560" y="129528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481880" y="3367080"/>
              <a:ext cx="75600" cy="990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7634160" y="2071440"/>
              <a:ext cx="609120" cy="9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7467480" y="3352680"/>
            <a:ext cx="763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620120" y="2209320"/>
            <a:ext cx="53316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048120"/>
            <a:ext cx="380880" cy="304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343400"/>
            <a:ext cx="38088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05000" y="26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838080" y="2057400"/>
                <a:ext cx="5037120" cy="28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η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114ffb"/>
                </a:solidFill>
                <a:latin typeface="Tahoma"/>
              </a:rPr>
              <a:t>Backward pass 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35720" y="4363920"/>
            <a:ext cx="292320" cy="216000"/>
          </a:xfrm>
          <a:prstGeom prst="ellipse">
            <a:avLst/>
          </a:prstGeom>
          <a:solidFill>
            <a:srgbClr val="618ff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12040" y="3068640"/>
            <a:ext cx="368280" cy="291960"/>
          </a:xfrm>
          <a:prstGeom prst="rect">
            <a:avLst/>
          </a:prstGeom>
          <a:solidFill>
            <a:srgbClr val="618ff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91360" y="1919160"/>
            <a:ext cx="374760" cy="152640"/>
          </a:xfrm>
          <a:prstGeom prst="ellipse">
            <a:avLst/>
          </a:prstGeom>
          <a:solidFill>
            <a:srgbClr val="618ff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634160" y="2071440"/>
            <a:ext cx="60984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8520" y="480060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95360" y="365760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08840" y="22096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30481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05920" y="12952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481880" y="3367080"/>
            <a:ext cx="763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634160" y="2071440"/>
            <a:ext cx="60984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523880"/>
            <a:ext cx="601992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5486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=  f ( W(t)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36440" y="5562720"/>
            <a:ext cx="20732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=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d - o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295280"/>
            <a:ext cx="5943600" cy="4114800"/>
          </a:xfrm>
          <a:prstGeom prst="rect">
            <a:avLst/>
          </a:prstGeom>
          <a:solidFill>
            <a:srgbClr val="f5f5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5000" y="26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0720" y="1752480"/>
                <a:ext cx="5037120" cy="31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η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ηΔ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838080" y="38088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114ffb"/>
                </a:solidFill>
                <a:latin typeface="Times New Roman"/>
              </a:rPr>
              <a:t>Backward pass 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934320" y="1295280"/>
            <a:ext cx="1772640" cy="3960000"/>
            <a:chOff x="6934320" y="1295280"/>
            <a:chExt cx="1772640" cy="3960000"/>
          </a:xfrm>
        </p:grpSpPr>
        <p:sp>
          <p:nvSpPr>
            <p:cNvPr id="97" name=""/>
            <p:cNvSpPr/>
            <p:nvPr/>
          </p:nvSpPr>
          <p:spPr>
            <a:xfrm>
              <a:off x="7335720" y="4363920"/>
              <a:ext cx="292320" cy="216000"/>
            </a:xfrm>
            <a:prstGeom prst="ellipse">
              <a:avLst/>
            </a:prstGeom>
            <a:solidFill>
              <a:srgbClr val="f5f5f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12040" y="3068640"/>
              <a:ext cx="368280" cy="291960"/>
            </a:xfrm>
            <a:prstGeom prst="rect">
              <a:avLst/>
            </a:prstGeom>
            <a:solidFill>
              <a:srgbClr val="f5f5f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91360" y="1919160"/>
              <a:ext cx="374760" cy="152640"/>
            </a:xfrm>
            <a:prstGeom prst="ellipse">
              <a:avLst/>
            </a:prstGeom>
            <a:solidFill>
              <a:srgbClr val="618ff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7634160" y="2071440"/>
              <a:ext cx="60984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38520" y="480060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95360" y="3657600"/>
              <a:ext cx="69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2209680"/>
              <a:ext cx="758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34320" y="30481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05920" y="129528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7619760" y="2057400"/>
              <a:ext cx="609480" cy="99072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467480" y="3352680"/>
              <a:ext cx="76320" cy="99072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838080" y="5867280"/>
            <a:ext cx="2819520" cy="45972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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d-o ) f 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1066680"/>
            <a:ext cx="6705720" cy="4191120"/>
          </a:xfrm>
          <a:prstGeom prst="rect">
            <a:avLst/>
          </a:prstGeom>
          <a:solidFill>
            <a:srgbClr val="f5f5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5000" y="26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04920" y="1295280"/>
                <a:ext cx="6476760" cy="364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η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ηΔ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2" name=""/>
          <p:cNvGrpSpPr/>
          <p:nvPr/>
        </p:nvGrpSpPr>
        <p:grpSpPr>
          <a:xfrm>
            <a:off x="7086600" y="1219320"/>
            <a:ext cx="1772640" cy="3960000"/>
            <a:chOff x="7086600" y="1219320"/>
            <a:chExt cx="1772640" cy="3960000"/>
          </a:xfrm>
        </p:grpSpPr>
        <p:sp>
          <p:nvSpPr>
            <p:cNvPr id="113" name=""/>
            <p:cNvSpPr/>
            <p:nvPr/>
          </p:nvSpPr>
          <p:spPr>
            <a:xfrm>
              <a:off x="7488000" y="4287960"/>
              <a:ext cx="292320" cy="216000"/>
            </a:xfrm>
            <a:prstGeom prst="ellipse">
              <a:avLst/>
            </a:prstGeom>
            <a:solidFill>
              <a:srgbClr val="f5f5f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64320" y="2992680"/>
              <a:ext cx="368280" cy="291960"/>
            </a:xfrm>
            <a:prstGeom prst="rect">
              <a:avLst/>
            </a:prstGeom>
            <a:solidFill>
              <a:srgbClr val="f5f5f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43640" y="1843200"/>
              <a:ext cx="374760" cy="152640"/>
            </a:xfrm>
            <a:prstGeom prst="ellipse">
              <a:avLst/>
            </a:prstGeom>
            <a:solidFill>
              <a:srgbClr val="618ff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786440" y="1995480"/>
              <a:ext cx="60984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0800" y="472464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847640" y="3581640"/>
              <a:ext cx="69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1120" y="2133720"/>
              <a:ext cx="758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86600" y="29721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458200" y="12193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772040" y="1981440"/>
              <a:ext cx="609480" cy="99072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619760" y="3276720"/>
              <a:ext cx="76320" cy="99072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80880" y="22860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114ffb"/>
                </a:solidFill>
                <a:latin typeface="Times New Roman"/>
              </a:rPr>
              <a:t>Backward pass 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5867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=  f ( W(t)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 f ( W(t) f( w(t) I 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60480" y="136440"/>
            <a:ext cx="5805360" cy="3124440"/>
            <a:chOff x="60480" y="136440"/>
            <a:chExt cx="5805360" cy="3124440"/>
          </a:xfrm>
        </p:grpSpPr>
        <p:sp>
          <p:nvSpPr>
            <p:cNvPr id="127" name=""/>
            <p:cNvSpPr/>
            <p:nvPr/>
          </p:nvSpPr>
          <p:spPr>
            <a:xfrm>
              <a:off x="60480" y="28036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517680" y="136440"/>
              <a:ext cx="5348160" cy="685800"/>
              <a:chOff x="517680" y="136440"/>
              <a:chExt cx="5348160" cy="685800"/>
            </a:xfrm>
          </p:grpSpPr>
          <p:sp>
            <p:nvSpPr>
              <p:cNvPr id="129" name=""/>
              <p:cNvSpPr/>
              <p:nvPr/>
            </p:nvSpPr>
            <p:spPr>
              <a:xfrm>
                <a:off x="517680" y="365040"/>
                <a:ext cx="506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651040" y="136440"/>
                <a:ext cx="3214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2422440" y="5851440"/>
            <a:ext cx="186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380880"/>
            <a:ext cx="769608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Tahoma"/>
              </a:rPr>
              <a:t>General Three Layer Network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puts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s,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nections between input and hidden units,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s between hidden units and output ,  y is the activity of hidden un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 (t) = network input to the unit at tim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5791320"/>
            <a:ext cx="38124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5105520"/>
            <a:ext cx="38124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4419720"/>
            <a:ext cx="3808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54100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4800600"/>
            <a:ext cx="3808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5638680"/>
            <a:ext cx="38088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510552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45720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47242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819520" y="5105160"/>
            <a:ext cx="6094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819520" y="518112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472428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533412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19520" y="571464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809880" y="4724280"/>
            <a:ext cx="838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5029200"/>
            <a:ext cx="838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5181480"/>
            <a:ext cx="9144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809520" y="4800600"/>
            <a:ext cx="8384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09520" y="5334120"/>
            <a:ext cx="838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809520" y="5638320"/>
            <a:ext cx="838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4876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90720" y="4343400"/>
            <a:ext cx="5181480" cy="205740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1828800"/>
            <a:ext cx="5181480" cy="20574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380880"/>
            <a:ext cx="792504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Forward p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s are fixed during forward and backward pass  at t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Compute values for hidden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ompute values for output un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676520" y="2590920"/>
                <a:ext cx="6084720" cy="27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371600" y="4114800"/>
                <a:ext cx="612792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2" name=""/>
          <p:cNvGrpSpPr/>
          <p:nvPr/>
        </p:nvGrpSpPr>
        <p:grpSpPr>
          <a:xfrm>
            <a:off x="6543000" y="1585800"/>
            <a:ext cx="1864080" cy="4010400"/>
            <a:chOff x="6543000" y="1585800"/>
            <a:chExt cx="1864080" cy="4010400"/>
          </a:xfrm>
        </p:grpSpPr>
        <p:sp>
          <p:nvSpPr>
            <p:cNvPr id="163" name=""/>
            <p:cNvSpPr/>
            <p:nvPr/>
          </p:nvSpPr>
          <p:spPr>
            <a:xfrm>
              <a:off x="6940440" y="4654440"/>
              <a:ext cx="292320" cy="216000"/>
            </a:xfrm>
            <a:prstGeom prst="ellipse">
              <a:avLst/>
            </a:prstGeom>
            <a:solidFill>
              <a:srgbClr val="f5f5f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16760" y="3359160"/>
              <a:ext cx="368280" cy="291960"/>
            </a:xfrm>
            <a:prstGeom prst="rect">
              <a:avLst/>
            </a:prstGeom>
            <a:solidFill>
              <a:srgbClr val="f5f5f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96080" y="2209680"/>
              <a:ext cx="374760" cy="15264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238880" y="2361960"/>
              <a:ext cx="60984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47200" y="5091120"/>
              <a:ext cx="332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08360" y="3948120"/>
              <a:ext cx="788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j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24000" y="2500200"/>
              <a:ext cx="896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kj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43000" y="333864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17480" y="1585800"/>
              <a:ext cx="4896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086600" y="3657600"/>
              <a:ext cx="76320" cy="990720"/>
            </a:xfrm>
            <a:prstGeom prst="line">
              <a:avLst/>
            </a:prstGeom>
            <a:ln w="38160">
              <a:solidFill>
                <a:srgbClr val="f5f5f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238880" y="2361960"/>
              <a:ext cx="609840" cy="990360"/>
            </a:xfrm>
            <a:prstGeom prst="line">
              <a:avLst/>
            </a:prstGeom>
            <a:ln w="38160">
              <a:solidFill>
                <a:srgbClr val="f5f5f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V="1">
            <a:off x="7086600" y="3733920"/>
            <a:ext cx="7632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238880" y="2438280"/>
            <a:ext cx="53352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lvio Simani</cp:lastModifiedBy>
  <dcterms:modified xsi:type="dcterms:W3CDTF">2004-03-24T21:08:42Z</dcterms:modified>
  <cp:revision>61</cp:revision>
  <dc:subject/>
  <dc:title>PowerPoint Presentation</dc:title>
</cp:coreProperties>
</file>