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9342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04920" y="129528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Matisse ITC"/>
              </a:rPr>
              <a:t>Simple Neural Network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Matisse ITC"/>
              </a:rPr>
              <a:t>Lecture 3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Matisse ITC"/>
              </a:rPr>
              <a:t>Simple Percept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-46440" y="228600"/>
            <a:ext cx="9132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114ffb"/>
                </a:solidFill>
                <a:latin typeface="Tahoma"/>
              </a:rPr>
              <a:t>Learning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n algorithm to update the weights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o that fin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input patterns lie on both sides of the line decid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ercep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be the time, at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t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3124080"/>
            <a:ext cx="5181480" cy="3429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0" y="3124080"/>
            <a:ext cx="5181480" cy="3429000"/>
          </a:xfrm>
          <a:prstGeom prst="rtTriangle">
            <a:avLst/>
          </a:prstGeom>
          <a:solidFill>
            <a:srgbClr val="fdfd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34520" y="2590920"/>
            <a:ext cx="13374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4876920"/>
            <a:ext cx="990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62320" y="4038480"/>
            <a:ext cx="5181480" cy="2514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514600" y="4572000"/>
                <a:ext cx="31338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 </m:t>
                        </m:r>
                        <m:r>
                          <m:t xml:space="preserve">w</m:t>
                        </m:r>
                      </m:e>
                    </m:ba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⋅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9880" y="228600"/>
            <a:ext cx="9132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114ffb"/>
                </a:solidFill>
                <a:latin typeface="Tahoma"/>
              </a:rPr>
              <a:t>Learning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n algorithm to update the weights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o that fin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input patterns lie on both sides of the line decid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ercep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be the time, at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t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3124080"/>
            <a:ext cx="5181480" cy="3429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3124080"/>
            <a:ext cx="5181480" cy="3429000"/>
          </a:xfrm>
          <a:prstGeom prst="rtTriangle">
            <a:avLst/>
          </a:prstGeom>
          <a:solidFill>
            <a:srgbClr val="fdfd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05920" y="3048120"/>
            <a:ext cx="13374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43200" y="4724280"/>
            <a:ext cx="990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3124080"/>
            <a:ext cx="5105520" cy="3429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743200" y="4114800"/>
                <a:ext cx="308124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 </m:t>
                        </m:r>
                        <m:r>
                          <m:t xml:space="preserve">w</m:t>
                        </m:r>
                      </m:e>
                    </m:ba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⋅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785880" y="838080"/>
                <a:ext cx="7672320" cy="290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f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lass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+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374040" y="1981080"/>
            <a:ext cx="412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rceptron learning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9360" y="138240"/>
            <a:ext cx="20422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114ffb"/>
                </a:solidFill>
                <a:latin typeface="Tahoma"/>
              </a:rPr>
              <a:t>In Ma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4038480"/>
            <a:ext cx="815364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) is the learning rate &gt;0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1 if x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gn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                                      hard limiter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–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f x&lt;=0,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NB :  d(t) is the same as  d(i) and x(t) as x(i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472428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04920" y="175248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914400"/>
            <a:ext cx="8229600" cy="32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114ffb"/>
                </a:solidFill>
                <a:latin typeface="Tahoma"/>
              </a:rPr>
              <a:t>In word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classification is right, do not update the we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classification is not correct, update the weight towards the opposite direction so that the output move close to the right dire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28600" y="19051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4200" y="290520"/>
            <a:ext cx="8548920" cy="61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114ffb"/>
                </a:solidFill>
                <a:latin typeface="Tahoma"/>
              </a:rPr>
              <a:t>Perceptron convergence theorem (Rosenblatt, 196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t the subsets of training vectors be linearly separable. Then after finite steps of learning we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lim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w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(t)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 =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w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 which correctly separate the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idea of proof is that to consider ||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w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(t+1)-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||-||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w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(t)-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|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ich is a decrease function of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28600" y="1295280"/>
            <a:ext cx="8610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228600"/>
            <a:ext cx="8548920" cy="59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114ffb"/>
                </a:solidFill>
                <a:latin typeface="Tahoma"/>
              </a:rPr>
              <a:t>Summary </a:t>
            </a:r>
            <a:r>
              <a:rPr b="0" lang="en-GB" sz="3200" spc="-1" strike="noStrike">
                <a:solidFill>
                  <a:srgbClr val="114ffb"/>
                </a:solidFill>
                <a:latin typeface="Tahoma"/>
              </a:rPr>
              <a:t>of </a:t>
            </a:r>
            <a:r>
              <a:rPr b="1" lang="en-GB" sz="3200" spc="-1" strike="noStrike">
                <a:solidFill>
                  <a:srgbClr val="114ffb"/>
                </a:solidFill>
                <a:latin typeface="Tahoma"/>
              </a:rPr>
              <a:t>Perceptron learn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ariables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x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(t)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(m+1)  dim.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put vectors  at  time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= ( b, x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(t), x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(t),  .... , x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ahoma"/>
              </a:rPr>
              <a:t>m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(t)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w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(t) = (m+1)   dim.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eight vec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= ( 1 , w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(t), .... , w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ahoma"/>
              </a:rPr>
              <a:t>m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(t)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b =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y(t) =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ctual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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=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arning rate parameter, a +ve constant &lt;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d(t) =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sired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7200" y="127080"/>
            <a:ext cx="7924680" cy="63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114ffb"/>
                </a:solidFill>
                <a:latin typeface="Tahoma"/>
              </a:rPr>
              <a:t>Summary </a:t>
            </a:r>
            <a:r>
              <a:rPr b="0" lang="en-GB" sz="3200" spc="-1" strike="noStrike">
                <a:solidFill>
                  <a:srgbClr val="114ffb"/>
                </a:solidFill>
                <a:latin typeface="Tahoma"/>
              </a:rPr>
              <a:t>of </a:t>
            </a:r>
            <a:r>
              <a:rPr b="1" lang="en-GB" sz="3200" spc="-1" strike="noStrike">
                <a:solidFill>
                  <a:srgbClr val="114ffb"/>
                </a:solidFill>
                <a:latin typeface="Tahoma"/>
              </a:rPr>
              <a:t>Perceptron learn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ahoma"/>
              </a:rPr>
              <a:t>Data  { (</a:t>
            </a:r>
            <a:r>
              <a:rPr b="0" i="1" lang="en-GB" sz="3600" spc="-1" strike="noStrike" u="sng">
                <a:solidFill>
                  <a:srgbClr val="000000"/>
                </a:solidFill>
                <a:uFillTx/>
                <a:latin typeface="Tahoma"/>
              </a:rPr>
              <a:t>x</a:t>
            </a:r>
            <a:r>
              <a:rPr b="0" i="1" lang="en-GB" sz="3600" spc="-1" strike="noStrike">
                <a:solidFill>
                  <a:srgbClr val="000000"/>
                </a:solidFill>
                <a:latin typeface="Tahoma"/>
              </a:rPr>
              <a:t>(i), d(i)), i=1,…,p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esent the data to the network once  a poin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uld be cyclic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x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(1), d(1)), (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x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(2), d(2)),…, (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x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(p), d(p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x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(p+1), d(p+1))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or randomly</a:t>
            </a:r>
            <a:r>
              <a:rPr b="0" i="1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ahoma"/>
              </a:rPr>
              <a:t>(Hence we mix time t with i her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04920" y="685800"/>
            <a:ext cx="8609040" cy="557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1.  Initialization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t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w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(0)=0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 Then perform the following computation for  time step t=1,2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. Activation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t time step t, activate the perceptron by applying input vector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x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(t)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and desired respons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d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. Computation of actual respons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ute the actual response of the percep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y(t) = sign (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w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(t)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·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x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(t)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sig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is the sign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4.  Adaptation of weight vector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pdate the weight vector of the percep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w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(t+1) =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w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(t)+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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  [ d(t) - y(t) ] 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x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5. Continu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22860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14ffb"/>
                </a:solidFill>
                <a:latin typeface="Tahoma"/>
              </a:rPr>
              <a:t>Summary </a:t>
            </a:r>
            <a:r>
              <a:rPr b="0" lang="en-GB" sz="2400" spc="-1" strike="noStrike">
                <a:solidFill>
                  <a:srgbClr val="114ffb"/>
                </a:solidFill>
                <a:latin typeface="Tahoma"/>
              </a:rPr>
              <a:t>of </a:t>
            </a:r>
            <a:r>
              <a:rPr b="1" lang="en-GB" sz="2400" spc="-1" strike="noStrike">
                <a:solidFill>
                  <a:srgbClr val="114ffb"/>
                </a:solidFill>
                <a:latin typeface="Tahoma"/>
              </a:rPr>
              <a:t>Perceptron learning (algorith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1560" y="387360"/>
            <a:ext cx="257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280" y="380880"/>
            <a:ext cx="8548920" cy="58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114ffb"/>
                </a:solidFill>
                <a:latin typeface="Tahoma"/>
              </a:rPr>
              <a:t>Questions remai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ere or when  to sto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inimizing the generalization err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ining data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{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x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(i), d(i)), i=1,…p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w to define training error after t steps of lear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(t)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ahoma"/>
              </a:rPr>
              <a:t>i=1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[d(i)-sign(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t)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i)]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073240" y="533520"/>
            <a:ext cx="5181480" cy="37335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73240" y="1752480"/>
            <a:ext cx="5181480" cy="2514600"/>
          </a:xfrm>
          <a:prstGeom prst="rtTriangle">
            <a:avLst/>
          </a:prstGeom>
          <a:solidFill>
            <a:srgbClr val="fdfd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73240" y="533520"/>
            <a:ext cx="5181480" cy="3733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01840" y="1752480"/>
            <a:ext cx="142560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Symbol" charset="2"/>
              <a:buChar char="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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22560" y="762120"/>
            <a:ext cx="14515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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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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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560" y="1336680"/>
            <a:ext cx="12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step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17880" y="5222880"/>
            <a:ext cx="113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t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895480" y="228600"/>
            <a:ext cx="35816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114ffb"/>
                </a:solidFill>
                <a:latin typeface="Times New Roman"/>
              </a:rPr>
              <a:t>Outlin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191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219320"/>
            <a:ext cx="7391160" cy="55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Perceptr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Linearly separable 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Network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Perceptron learning r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Convergence of Perceptr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41360" y="11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88480" y="449280"/>
            <a:ext cx="5952240" cy="21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How to define generalization err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 a new signal {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t+1),d(t+1)}, we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=  [d(t+1)-sign (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(t+1)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(t)) ]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30640" y="1295280"/>
            <a:ext cx="43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97800" y="304812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000" spc="-1" strike="noStrike">
                <a:solidFill>
                  <a:srgbClr val="114ffb"/>
                </a:solidFill>
                <a:latin typeface="Symbol"/>
                <a:ea typeface="Symbol"/>
              </a:rPr>
              <a:t>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04560" y="2743200"/>
            <a:ext cx="6950160" cy="3733920"/>
            <a:chOff x="304560" y="2743200"/>
            <a:chExt cx="6950160" cy="3733920"/>
          </a:xfrm>
        </p:grpSpPr>
        <p:sp>
          <p:nvSpPr>
            <p:cNvPr id="196" name=""/>
            <p:cNvSpPr/>
            <p:nvPr/>
          </p:nvSpPr>
          <p:spPr>
            <a:xfrm>
              <a:off x="2073240" y="2743200"/>
              <a:ext cx="5181480" cy="3733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73240" y="3962520"/>
              <a:ext cx="5181480" cy="2514600"/>
            </a:xfrm>
            <a:prstGeom prst="rtTriangle">
              <a:avLst/>
            </a:prstGeom>
            <a:solidFill>
              <a:srgbClr val="fdfdf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73240" y="2743200"/>
              <a:ext cx="5181480" cy="3733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301840" y="3962520"/>
              <a:ext cx="1425600" cy="21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Symbol" charset="2"/>
                <a:buChar char="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buClr>
                  <a:srgbClr val="000000"/>
                </a:buClr>
                <a:buFont typeface="Symbol" charset="2"/>
                <a:buChar char="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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22560" y="2971800"/>
              <a:ext cx="1451520" cy="19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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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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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4560" y="3546720"/>
              <a:ext cx="1258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ft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arnin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 steps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2057400" y="2743200"/>
            <a:ext cx="5181480" cy="3733920"/>
          </a:xfrm>
          <a:custGeom>
            <a:avLst/>
            <a:gdLst/>
            <a:ahLst/>
            <a:rect l="l" t="t" r="r" b="b"/>
            <a:pathLst>
              <a:path w="3264" h="2352">
                <a:moveTo>
                  <a:pt x="0" y="0"/>
                </a:moveTo>
                <a:lnTo>
                  <a:pt x="0" y="768"/>
                </a:lnTo>
                <a:lnTo>
                  <a:pt x="3264" y="2352"/>
                </a:lnTo>
                <a:lnTo>
                  <a:pt x="3264" y="0"/>
                </a:lnTo>
                <a:lnTo>
                  <a:pt x="0" y="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2743200"/>
            <a:ext cx="5181480" cy="3733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05520" y="3048120"/>
            <a:ext cx="16761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Symbol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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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42900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533520" y="114300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next turn to </a:t>
            </a:r>
            <a:r>
              <a:rPr b="0" lang="en-US" sz="3600" spc="-1" strike="noStrike">
                <a:solidFill>
                  <a:srgbClr val="114ffb"/>
                </a:solidFill>
                <a:latin typeface="Times New Roman"/>
              </a:rPr>
              <a:t>ADALINE learn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om which we can understand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learning rule, and more general the Back-Propagation (BP)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914400"/>
            <a:ext cx="792180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perceptron was a simple model of ANN  introduced  by Rosenblatt of MIT in the  1960’ with the idea of lea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erceptron is designed to accomplish a simple pattern recognition task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fter learning with real value training dat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x(i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, d(i),  i =1,2, …, 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       where d(i) = 1 or -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 a new signal (pattern)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x(i+1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the perceptron is capable of telling you to which class the new signal belong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x(i+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5029200"/>
            <a:ext cx="2057400" cy="9907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rcep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5486400"/>
            <a:ext cx="1295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44280" y="525780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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228600"/>
            <a:ext cx="4267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114ffb"/>
                </a:solidFill>
                <a:latin typeface="Tahoma"/>
              </a:rPr>
              <a:t>THE PERCEPTRON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ercept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Linear threshold unit (LT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3505320"/>
            <a:ext cx="914400" cy="91440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34800" y="3505320"/>
            <a:ext cx="51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57200" y="2743200"/>
            <a:ext cx="533520" cy="609480"/>
            <a:chOff x="457200" y="2743200"/>
            <a:chExt cx="533520" cy="609480"/>
          </a:xfrm>
        </p:grpSpPr>
        <p:sp>
          <p:nvSpPr>
            <p:cNvPr id="53" name=""/>
            <p:cNvSpPr/>
            <p:nvPr/>
          </p:nvSpPr>
          <p:spPr>
            <a:xfrm>
              <a:off x="457200" y="2819520"/>
              <a:ext cx="533520" cy="533160"/>
            </a:xfrm>
            <a:prstGeom prst="ellipse">
              <a:avLst/>
            </a:pr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0440" y="2743200"/>
              <a:ext cx="485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sv-SE" sz="2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457200" y="3581280"/>
            <a:ext cx="533520" cy="609480"/>
            <a:chOff x="457200" y="3581280"/>
            <a:chExt cx="533520" cy="609480"/>
          </a:xfrm>
        </p:grpSpPr>
        <p:sp>
          <p:nvSpPr>
            <p:cNvPr id="56" name=""/>
            <p:cNvSpPr/>
            <p:nvPr/>
          </p:nvSpPr>
          <p:spPr>
            <a:xfrm>
              <a:off x="457200" y="3657600"/>
              <a:ext cx="533520" cy="533160"/>
            </a:xfrm>
            <a:prstGeom prst="ellipse">
              <a:avLst/>
            </a:pr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60440" y="3581280"/>
              <a:ext cx="485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sv-SE" sz="28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57200" y="5029200"/>
            <a:ext cx="533520" cy="609480"/>
            <a:chOff x="457200" y="5029200"/>
            <a:chExt cx="533520" cy="609480"/>
          </a:xfrm>
        </p:grpSpPr>
        <p:sp>
          <p:nvSpPr>
            <p:cNvPr id="59" name=""/>
            <p:cNvSpPr/>
            <p:nvPr/>
          </p:nvSpPr>
          <p:spPr>
            <a:xfrm>
              <a:off x="457200" y="5105520"/>
              <a:ext cx="533520" cy="533160"/>
            </a:xfrm>
            <a:prstGeom prst="ellipse">
              <a:avLst/>
            </a:pr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7560" y="5029200"/>
              <a:ext cx="494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sv-SE" sz="2800" spc="-1" strike="noStrike" baseline="-25000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990720" y="3048120"/>
            <a:ext cx="10666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3809880"/>
            <a:ext cx="99036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990720" y="4343400"/>
            <a:ext cx="11430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4320" y="3886200"/>
            <a:ext cx="3164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7760" y="2666880"/>
            <a:ext cx="5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sv-SE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5480" y="3276720"/>
            <a:ext cx="5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sv-SE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2600" y="4495680"/>
            <a:ext cx="58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sv-SE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62760" y="2666880"/>
            <a:ext cx="98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sv-SE" sz="2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i="1" lang="sv-SE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07720" y="2209680"/>
            <a:ext cx="89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sv-SE" sz="2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38280" y="2590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45520" y="3429000"/>
            <a:ext cx="1625400" cy="12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x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sv-SE" sz="2800" spc="-1" strike="noStrike" baseline="-25000">
                <a:solidFill>
                  <a:srgbClr val="000000"/>
                </a:solidFill>
                <a:latin typeface="Tahoma"/>
              </a:rPr>
              <a:t>i=0</a:t>
            </a:r>
            <a:r>
              <a:rPr b="0" lang="sv-SE" sz="28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 w</a:t>
            </a:r>
            <a:r>
              <a:rPr b="0" lang="sv-SE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lang="sv-SE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3505320"/>
            <a:ext cx="914400" cy="91440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572000" y="3505320"/>
            <a:ext cx="761760" cy="838080"/>
            <a:chOff x="4572000" y="3505320"/>
            <a:chExt cx="761760" cy="838080"/>
          </a:xfrm>
        </p:grpSpPr>
        <p:sp>
          <p:nvSpPr>
            <p:cNvPr id="74" name=""/>
            <p:cNvSpPr/>
            <p:nvPr/>
          </p:nvSpPr>
          <p:spPr>
            <a:xfrm>
              <a:off x="4656600" y="3984120"/>
              <a:ext cx="55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52880" y="3684600"/>
              <a:ext cx="0" cy="538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952880" y="35053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2000" y="4223520"/>
              <a:ext cx="380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4952880" y="3684600"/>
              <a:ext cx="380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895480" y="39625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10080" y="39625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858000" y="3733920"/>
            <a:ext cx="533520" cy="533160"/>
            <a:chOff x="6858000" y="3733920"/>
            <a:chExt cx="533520" cy="533160"/>
          </a:xfrm>
        </p:grpSpPr>
        <p:sp>
          <p:nvSpPr>
            <p:cNvPr id="82" name=""/>
            <p:cNvSpPr/>
            <p:nvPr/>
          </p:nvSpPr>
          <p:spPr>
            <a:xfrm>
              <a:off x="6858000" y="3733920"/>
              <a:ext cx="533520" cy="533160"/>
            </a:xfrm>
            <a:prstGeom prst="ellipse">
              <a:avLst/>
            </a:pr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58000" y="3772080"/>
              <a:ext cx="184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3962520" y="2209680"/>
            <a:ext cx="414972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1   i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sv-SE" sz="2800" spc="-1" strike="noStrike" baseline="-25000">
                <a:solidFill>
                  <a:srgbClr val="000000"/>
                </a:solidFill>
                <a:latin typeface="Tahoma"/>
              </a:rPr>
              <a:t>i=0</a:t>
            </a:r>
            <a:r>
              <a:rPr b="0" lang="sv-SE" sz="28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sv-SE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lang="sv-SE" sz="24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o(x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-1   other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58840" y="380988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09680" y="2286000"/>
            <a:ext cx="41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3124080"/>
            <a:ext cx="3429000" cy="1676520"/>
          </a:xfrm>
          <a:prstGeom prst="ellipse">
            <a:avLst/>
          </a:prstGeom>
          <a:noFill/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836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Decision Surface of a Percept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85440" y="1219320"/>
            <a:ext cx="2562480" cy="2517120"/>
            <a:chOff x="685440" y="1219320"/>
            <a:chExt cx="2562480" cy="2517120"/>
          </a:xfrm>
        </p:grpSpPr>
        <p:sp>
          <p:nvSpPr>
            <p:cNvPr id="90" name=""/>
            <p:cNvSpPr/>
            <p:nvPr/>
          </p:nvSpPr>
          <p:spPr>
            <a:xfrm>
              <a:off x="1600200" y="167652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85440" y="274356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54720" y="1600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68920" y="21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16640" y="1905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88040" y="2819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08480" y="2895840"/>
              <a:ext cx="2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37080" y="2286360"/>
              <a:ext cx="2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42000" y="3276720"/>
              <a:ext cx="2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46920" y="2210040"/>
              <a:ext cx="2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05120" y="2472120"/>
              <a:ext cx="44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sv-SE" sz="24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25320" y="1219320"/>
              <a:ext cx="44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sv-SE" sz="24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762120" y="1371960"/>
              <a:ext cx="1828800" cy="220968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613560" y="155736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638320" y="2590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45840" y="1828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60240" y="2743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28200" y="2819520"/>
            <a:ext cx="2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42600" y="1828800"/>
            <a:ext cx="2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758000" y="2319480"/>
            <a:ext cx="44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sv-SE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08600" y="1185840"/>
            <a:ext cx="44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sv-SE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3962520"/>
            <a:ext cx="78008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Perceptron is able to represent some usefu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AND (x</a:t>
            </a:r>
            <a:r>
              <a:rPr b="0" lang="sv-SE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,x</a:t>
            </a:r>
            <a:r>
              <a:rPr b="0" lang="sv-SE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) choose weights w</a:t>
            </a:r>
            <a:r>
              <a:rPr b="0" lang="sv-SE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=-1.5, w</a:t>
            </a:r>
            <a:r>
              <a:rPr b="0" lang="sv-SE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=1, w</a:t>
            </a:r>
            <a:r>
              <a:rPr b="0" lang="sv-SE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But functions that are not linearly separable         (e.g. XOR)  are not represen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2971800"/>
            <a:ext cx="381240" cy="380880"/>
          </a:xfrm>
          <a:prstGeom prst="ellipse">
            <a:avLst/>
          </a:prstGeom>
          <a:solidFill>
            <a:srgbClr val="f5f5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2895480"/>
            <a:ext cx="6094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200040" y="3276720"/>
            <a:ext cx="68580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31240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251460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23623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3352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28195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066680" y="838080"/>
                <a:ext cx="64008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705960" y="3352680"/>
            <a:ext cx="5807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f is the hard limiter function  i.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914400" y="3429000"/>
                <a:ext cx="6324480" cy="26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f</m:t>
                                </m:r>
                                <m:r>
                                  <m:t xml:space="preserve"> 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m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nary>
                                <m:r>
                                  <m:t xml:space="preserve">&gt;</m:t>
                                </m:r>
                                <m:r>
                                  <m:t xml:space="preserve">0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439560" y="2209680"/>
            <a:ext cx="7949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always treat the bi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nother weight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s equa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5228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ffb"/>
                </a:solidFill>
                <a:latin typeface="Tahoma"/>
              </a:rPr>
              <a:t>Mathematically the Perceptron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2438280" y="914400"/>
            <a:ext cx="4419360" cy="1904760"/>
            <a:chOff x="2438280" y="914400"/>
            <a:chExt cx="4419360" cy="1904760"/>
          </a:xfrm>
        </p:grpSpPr>
        <p:sp>
          <p:nvSpPr>
            <p:cNvPr id="127" name=""/>
            <p:cNvSpPr/>
            <p:nvPr/>
          </p:nvSpPr>
          <p:spPr>
            <a:xfrm>
              <a:off x="2438280" y="914400"/>
              <a:ext cx="4419360" cy="190476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2521800" y="914400"/>
                  <a:ext cx="4169160" cy="158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9" name=""/>
          <p:cNvSpPr/>
          <p:nvPr/>
        </p:nvSpPr>
        <p:spPr>
          <a:xfrm>
            <a:off x="136440" y="41400"/>
            <a:ext cx="885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Times New Roman"/>
              </a:rPr>
              <a:t>Why is the network  capable of solving linearly separable problem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438280" y="2666880"/>
            <a:ext cx="5181480" cy="3886200"/>
            <a:chOff x="2438280" y="2666880"/>
            <a:chExt cx="5181480" cy="3886200"/>
          </a:xfrm>
        </p:grpSpPr>
        <p:sp>
          <p:nvSpPr>
            <p:cNvPr id="131" name=""/>
            <p:cNvSpPr/>
            <p:nvPr/>
          </p:nvSpPr>
          <p:spPr>
            <a:xfrm>
              <a:off x="2438280" y="2819520"/>
              <a:ext cx="5181480" cy="37335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38280" y="2819520"/>
              <a:ext cx="5181480" cy="3733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38280" y="2819520"/>
              <a:ext cx="5181480" cy="3733560"/>
            </a:xfrm>
            <a:prstGeom prst="rtTriangle">
              <a:avLst/>
            </a:prstGeom>
            <a:solidFill>
              <a:srgbClr val="fdfd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05920" y="2666880"/>
              <a:ext cx="1337400" cy="24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5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95480" y="4191120"/>
              <a:ext cx="99036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6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0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flipH="1">
            <a:off x="3276720" y="2514600"/>
            <a:ext cx="304560" cy="8380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34320" y="3505320"/>
            <a:ext cx="2209680" cy="1371600"/>
          </a:xfrm>
          <a:prstGeom prst="rect">
            <a:avLst/>
          </a:prstGeom>
          <a:solidFill>
            <a:srgbClr val="fdfd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975360" y="3505320"/>
                <a:ext cx="2084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nary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0" y="335268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nary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3520" y="0"/>
            <a:ext cx="76737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114ffb"/>
                </a:solidFill>
                <a:latin typeface="Tahoma"/>
              </a:rPr>
              <a:t>Learning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n algorithm to update the weights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o that fin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input patterns lie on both sides of the line decided by the percep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be the time, at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t = 0, we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352680"/>
            <a:ext cx="4648320" cy="2971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3352680"/>
            <a:ext cx="3048120" cy="297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3352680"/>
            <a:ext cx="4648320" cy="2971800"/>
          </a:xfrm>
          <a:prstGeom prst="rtTriangle">
            <a:avLst/>
          </a:prstGeom>
          <a:solidFill>
            <a:srgbClr val="fdfd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53640" y="2666880"/>
            <a:ext cx="13374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43200" y="4191120"/>
            <a:ext cx="990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743200" y="3429000"/>
                <a:ext cx="31338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 </m:t>
                        </m:r>
                        <m:r>
                          <m:t xml:space="preserve">w</m:t>
                        </m:r>
                      </m:e>
                    </m:ba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⋅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34440" y="-11160"/>
            <a:ext cx="9132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114ffb"/>
                </a:solidFill>
                <a:latin typeface="Tahoma"/>
              </a:rPr>
              <a:t>Learning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n algorithm to update the weights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o that fin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input patterns lie on both sides of the line decid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ercep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be the time, at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t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2819520"/>
            <a:ext cx="5181480" cy="37335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2819520"/>
            <a:ext cx="5181480" cy="3733560"/>
          </a:xfrm>
          <a:prstGeom prst="rtTriangle">
            <a:avLst/>
          </a:prstGeom>
          <a:solidFill>
            <a:srgbClr val="fdfd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53640" y="2971800"/>
            <a:ext cx="13374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43200" y="4495680"/>
            <a:ext cx="990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2819520"/>
            <a:ext cx="4343400" cy="3733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743200" y="3429000"/>
                <a:ext cx="302904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 </m:t>
                        </m:r>
                        <m:r>
                          <m:t xml:space="preserve">w</m:t>
                        </m:r>
                      </m:e>
                    </m:ba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lvio Simani</cp:lastModifiedBy>
  <dcterms:modified xsi:type="dcterms:W3CDTF">2004-03-23T16:52:23Z</dcterms:modified>
  <cp:revision>71</cp:revision>
  <dc:subject/>
  <dc:title>PowerPoint Presentation</dc:title>
</cp:coreProperties>
</file>